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03E-ED67-46A4-ADAE-5CC35992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558-D037-4589-8A3D-0D9547C1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6588D-CD12-4158-83A4-C1B3A435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9C42B-2887-4806-ADC8-86544309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A14B0-F352-40D4-928E-AE82859C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7AF25-F689-4EC2-B680-B0AA98DF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0E289-83C4-4E99-9DF0-5F469B09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1AB92-E890-4426-83D4-CB1BA2D3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8AB4B-9BBA-499D-895D-20AEF23A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4FEE4-7E87-445D-94FC-C257945C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20113-EB52-49A9-85F1-367DE8D7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5EBAA-B56C-4199-88D6-3FD54E6E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CA8-B5CD-4BD3-8436-C267C932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8452B-84D3-4648-A37D-9C77EC7D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0A4B2-BDAA-4E92-B337-53BB85CA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7DD52-1603-4E73-9320-868EBB56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3E57C-2D7C-4D0F-AA35-8F5A12BE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FC102-92B6-409F-8CD8-2A17388A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0EDDB-E85D-4E12-9F8A-0EEF874F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D3A55-5851-449B-9683-C27054DA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EC84A-15D4-4747-A40F-86630CB2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DDC41-E063-4E6E-B842-BB553CF4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25ECB-283A-495F-B258-35CB3F55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CC2-E407-4313-8830-CD961732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57E0F-F870-4891-8461-863F6DA6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C9EC-808A-43E9-B351-3C976757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1BF4-BA0B-41CF-81A3-88C4E5AA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EF33-07F9-4B89-8094-15A32960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985E-41C1-478E-8F67-4F24353E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42DC-95B7-441B-9C97-466141DF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BD43-570F-46A6-A014-8C6C6AC5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8ECF-0DEE-4A7C-8EE4-D0D5B71B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B1B-3675-469E-809A-3BC3F198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D16D-78CA-448F-9436-D8C89DDA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DB17-71E2-403B-806E-ED29070D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FF96-154B-4C7F-AA0D-16D57268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089F-5ABB-417E-9338-322B458D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9221-DC17-428D-9873-47F4CF2A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FF3A2-88A2-46A1-AEFA-3BD8A41D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82764-1793-452E-B88C-8CB96D95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569AF-D552-414F-AB9C-60FDF0C5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A6B29-61A4-4900-A1D9-76DDDDC2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0765B-C3A4-4E25-841E-57D1DBBE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9260-67B1-4EE2-B6A9-72B38BFB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8D30-FB59-4F93-B13A-615598FA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DA2F2-5CA6-4D88-B0E9-AFB2993F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58536-BEEA-4967-BE97-98CF8E74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E14AF-EDC6-4FE5-88BD-9D057636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55DBA-B2D0-41B0-9F9A-5A3EB875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DDB89-492B-4B00-A2FB-2B5CBEAD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3DA28-BFB0-4848-A604-4C8033CC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8E39F-3C39-4E1C-9E94-75A1BF58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1621F-B263-4D63-ACED-99607F46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B82D2-269F-4F9B-886A-6FA25D9D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4D08-7318-42E0-8054-8BF58169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593C5-11CE-4652-B36A-2C9CFAFF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0DCF4-D650-49BE-9794-9A4A85FB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DA8F-896B-4C05-86F9-170EBA9E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9DD9D-AC61-4C6D-A093-1B9D02A4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8DC96-52DB-4449-A8B4-93E5617A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1838C-9CF0-4700-9575-34FCA3A2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1B6EC-1224-443A-B27B-436013A5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4C33C-E4DE-48E1-8D88-6A0CA0BA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F31DD-98F8-44F2-A587-443A3E03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3FAB8-D80F-477F-9E48-87BDFAB8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3227-4D86-4CFE-95FC-881DA34A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03644-9D98-49A3-AA4B-30DAD0D2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0AF01-C7A2-4420-80FE-6181FB83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6FBF8-2D53-4344-8F85-D74D8B90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8FD73-0A6D-442C-B4AF-2F6FBD9E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2ED1F-A7EC-432D-A8F7-0CAB187A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87828-7631-4BF4-910F-39F955CE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BDA86-3474-45BF-9BA3-D78B551A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0B5E2-FC42-4F7D-A335-EFE9EA6C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82216-643D-41E6-B376-5C3DC034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4C42A-6403-47C1-83D8-CB9C0AA5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A17-2127-4C81-AE8C-AC1F5E9C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CBC57-98DC-4BD4-BED8-7F7FB614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1A00DB-3ECB-425E-BC17-624E225B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301410-1A27-4799-82A5-E4AE989C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435D72-D452-40CE-9B97-5197BDE4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BBFC76-D90D-495F-892A-1F144D6E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863248-88DF-4207-A41A-3808BFC3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E665C7-D29F-4470-A809-3D69888C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B498A7-97AC-4E06-929E-76758E52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C6818-F1DE-47D2-BEAE-B8BDB3DE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D560FE-C31D-4250-9771-E679B144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F1B-A11A-4517-AC01-F40B987A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45FA35-476E-427A-9E0B-B8949598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3E3E7-4098-402B-A38B-DC70D6C1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AECCCB-E5C1-4C4D-A76C-0B8C78FC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E1E4A-2869-402F-B56C-BCFA2D93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25BE5-EDA8-4818-9EB7-D2D4CF5E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A1F38-570F-4E12-A3E4-C966E377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7B06D-DF30-4F04-9E34-ECF46AD6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2F693-7F74-41F9-9E30-8A226552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11E55-94A0-44EE-9830-DD42C847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93A0A-AF94-4F2B-BCB3-A0B39172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A5A-9FDE-4073-B4A7-858D05E0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B0612-00AB-4A26-BE9C-95C90495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825A6-5720-401C-822A-B62E7B9A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F9EE1-2F28-4EF4-A086-A9CF572C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208A3-6D86-41DF-AD26-C54362D4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3CB78-6623-4DEA-B0BE-2B6FD383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AA0A3-7B73-43B7-8ABB-F18A7644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B196F-25F4-4910-97FB-8441A6C2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31C32-F1D7-440B-805A-C67306BF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9C374-E6AA-412A-8C7A-4B50E736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CAD09-1E95-479E-9D74-D88B28BE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ABD-AB79-474A-8AD8-CF5A17D9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A0204-26FF-45EF-9ABC-FD8FFEA5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38C0F-1D1D-4F4F-B6CA-89A89824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8A680-075D-4E00-93D2-95436728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11C46-7B92-42FF-964D-18B3AA6E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28D42-9AC4-4836-A434-F5287722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9F1EE-C352-4FD0-9944-5D402A01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D37F2-922F-4C9F-B71D-54860A0D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C5353-7283-4F81-925E-9C500897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76FFE-6CB4-4316-89A1-18136F3D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F4EC3-FE16-417C-ADB4-5CB23757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9C51-AD5D-4419-BDD8-40FDD3D067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12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13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14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15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16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17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8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7508-CD57-41CA-8110-D7955395CB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5294-E463-4A9D-A393-3C94397F46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5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6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7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8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  <p:grpSp>
          <p:nvGrpSpPr>
            <p:cNvPr id="99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0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1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2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3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4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5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6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7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8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9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0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1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2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3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4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5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6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7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8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9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0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1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2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3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4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5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6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7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8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9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0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1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2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3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4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5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6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7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8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9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0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1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2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3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4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5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6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7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8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9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0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1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2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3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4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5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6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7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8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9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0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1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2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3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4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5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6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7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8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9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0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1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2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3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4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5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6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7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8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9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0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1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2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3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4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5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6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7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8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9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0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1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2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3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4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5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6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7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8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9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0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1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2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3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4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5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6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7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8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9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0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1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2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3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4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5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6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7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8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9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0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1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2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3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4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5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6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7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8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9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30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31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32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33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34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99DF-E1AA-4F5A-B160-A6EAA2FD88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7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grpSp>
          <p:nvGrpSpPr>
            <p:cNvPr id="27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7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0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0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0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0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grpSp>
            <p:nvGrpSpPr>
              <p:cNvPr id="30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0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0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0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0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0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2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2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2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2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2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2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2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2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3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3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3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3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3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3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3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3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3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4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AA99-6EFE-4FBA-A2A2-BED1BF18578E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8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8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8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8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8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E93C-061E-4B4E-8E5C-E011EBECCA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AED4-9B81-4095-A1AE-930ACDBD38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4901-C096-4E6C-8729-0823F15150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1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1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1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1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1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1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  <p:grpSp>
          <p:nvGrpSpPr>
            <p:cNvPr id="52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2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6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6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6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6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5763-F49E-461C-A77F-FBF454D950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06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grpSp>
          <p:nvGrpSpPr>
            <p:cNvPr id="70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08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09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0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1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2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3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4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5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6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7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8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9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0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1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2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3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4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5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6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7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8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9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30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31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32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grpSp>
            <p:nvGrpSpPr>
              <p:cNvPr id="73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3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3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3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3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3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3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4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5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5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5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5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5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5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5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5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5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5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6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6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2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63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64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65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6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6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6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6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25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26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367D-1EF1-49AA-A6D7-3A57E4A5880C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2193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بسم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ea typeface="IPT.Yagut"/>
              </a:rPr>
              <a:t>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الله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ea typeface="IPT.Yagut"/>
              </a:rPr>
              <a:t>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الرحمن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ea typeface="IPT.Yagut"/>
              </a:rPr>
              <a:t>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الرحیم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Rectangle 4"/>
          <p:cNvSpPr/>
          <p:nvPr/>
        </p:nvSpPr>
        <p:spPr>
          <a:xfrm>
            <a:off x="0" y="46483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99ff"/>
                </a:solidFill>
                <a:latin typeface="Tahoma"/>
              </a:rPr>
              <a:t>روشها: تعیین چگونگی انجام هر یک از مراحل رویه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95" name="Rectangle 5"/>
          <p:cNvSpPr/>
          <p:nvPr/>
        </p:nvSpPr>
        <p:spPr>
          <a:xfrm>
            <a:off x="0" y="320040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رویه ها: تعیین مراحل یا گام های متوالی پیوسته برای انجام یک وظیفه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6" dur="500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Rectangle 4"/>
          <p:cNvSpPr/>
          <p:nvPr/>
        </p:nvSpPr>
        <p:spPr>
          <a:xfrm>
            <a:off x="0" y="46483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9933"/>
                </a:solidFill>
                <a:latin typeface="Tahoma"/>
              </a:rPr>
              <a:t>خط مشی ها: 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رهنمودهای کلی مبهمی هستند که در چهارچوب آنها مدیران می توانند از قضاوت شخصی نیز استفاده کن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99" name="Rectangle 5"/>
          <p:cNvSpPr/>
          <p:nvPr/>
        </p:nvSpPr>
        <p:spPr>
          <a:xfrm>
            <a:off x="0" y="320040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1" lang="fa-IR" sz="3200" spc="-1" strike="noStrike">
                <a:solidFill>
                  <a:srgbClr val="3399ff"/>
                </a:solidFill>
                <a:latin typeface="Tahoma"/>
              </a:rPr>
              <a:t>مقررات: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احکام صریحی که بیان می کنند شخص چه باید بکند یا نباید بک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Rectangle 4"/>
          <p:cNvSpPr/>
          <p:nvPr/>
        </p:nvSpPr>
        <p:spPr>
          <a:xfrm>
            <a:off x="0" y="32004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با توجه به قابلیت پیش بینی نتایج ، شرایط به سه دسته قابل تقسیم است: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الف: اطمینان قطع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ب: ریسک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ج: عدم اطمینان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03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Tahoma"/>
              </a:rPr>
              <a:t>« شرایط تصمیم گیر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6" name="Rectangle 4"/>
          <p:cNvSpPr/>
          <p:nvPr/>
        </p:nvSpPr>
        <p:spPr>
          <a:xfrm>
            <a:off x="0" y="380988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9933"/>
                </a:solidFill>
                <a:latin typeface="Tahoma"/>
              </a:rPr>
              <a:t>- برنامه ریزی عبارت است از فراگرد تعیین اهداف سازمان و تدارک دقیق و پیشاپیش اقدامات و وسایلی که تحقق اهداف را میسر می ساز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0" y="2590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تعیین اهداف و برنامه ریز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0" name="Rectangle 4"/>
          <p:cNvSpPr/>
          <p:nvPr/>
        </p:nvSpPr>
        <p:spPr>
          <a:xfrm>
            <a:off x="0" y="365760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- هدف گذار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- پیش نگر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- بودجه بند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- تعیین خط مشی  و روشها و ملاک های عملیات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0" y="2590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فراگرد برنامه ریز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4" name="Rectangle 4"/>
          <p:cNvSpPr/>
          <p:nvPr/>
        </p:nvSpPr>
        <p:spPr>
          <a:xfrm>
            <a:off x="6799680" y="487692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9933"/>
                </a:solidFill>
                <a:latin typeface="Tahoma"/>
              </a:rPr>
              <a:t>انواع هدف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5" name="Rectangle 5"/>
          <p:cNvSpPr/>
          <p:nvPr/>
        </p:nvSpPr>
        <p:spPr>
          <a:xfrm>
            <a:off x="3276720" y="4343400"/>
            <a:ext cx="236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99"/>
                </a:solidFill>
                <a:latin typeface="Tahoma"/>
              </a:rPr>
              <a:t>گروهی و سازمانی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6" name="Rectangle 6"/>
          <p:cNvSpPr/>
          <p:nvPr/>
        </p:nvSpPr>
        <p:spPr>
          <a:xfrm>
            <a:off x="3886200" y="5410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99"/>
                </a:solidFill>
                <a:latin typeface="Tahoma"/>
              </a:rPr>
              <a:t>لفظی و واقعی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7" name="Line 7"/>
          <p:cNvSpPr/>
          <p:nvPr/>
        </p:nvSpPr>
        <p:spPr>
          <a:xfrm>
            <a:off x="5791320" y="4648320"/>
            <a:ext cx="1295280" cy="5331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8" name="Line 8"/>
          <p:cNvSpPr/>
          <p:nvPr/>
        </p:nvSpPr>
        <p:spPr>
          <a:xfrm flipV="1">
            <a:off x="5791320" y="5181480"/>
            <a:ext cx="1295280" cy="457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9" name="Rectangle 9"/>
          <p:cNvSpPr/>
          <p:nvPr/>
        </p:nvSpPr>
        <p:spPr>
          <a:xfrm>
            <a:off x="304920" y="2286000"/>
            <a:ext cx="8839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اهداف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20" name="Rectangle 10"/>
          <p:cNvSpPr/>
          <p:nvPr/>
        </p:nvSpPr>
        <p:spPr>
          <a:xfrm>
            <a:off x="0" y="3124080"/>
            <a:ext cx="8839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6600"/>
                </a:solidFill>
                <a:latin typeface="Arial"/>
              </a:rPr>
              <a:t>مدیریت وسیله ای است برای نیل به هدف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8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65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150"/>
                            </p:stCondLst>
                            <p:childTnLst>
                              <p:par>
                                <p:cTn id="3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15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650"/>
                            </p:stCondLst>
                            <p:childTnLst>
                              <p:par>
                                <p:cTn id="3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965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3" name="Rectangle 4"/>
          <p:cNvSpPr/>
          <p:nvPr/>
        </p:nvSpPr>
        <p:spPr>
          <a:xfrm>
            <a:off x="0" y="365760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- اهداف باید سنجش پذیر باش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- هدف ها باید تحقق پذیر باش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- اهداف باید پذیرفتنی باش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24" name="Rectangle 5"/>
          <p:cNvSpPr/>
          <p:nvPr/>
        </p:nvSpPr>
        <p:spPr>
          <a:xfrm>
            <a:off x="0" y="2590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3600" spc="-1" strike="noStrike">
                <a:solidFill>
                  <a:srgbClr val="ff9933"/>
                </a:solidFill>
                <a:latin typeface="Arial"/>
              </a:rPr>
              <a:t>ملاک های عمده تعیین اهداف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9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7" name="Rectangle 4"/>
          <p:cNvSpPr/>
          <p:nvPr/>
        </p:nvSpPr>
        <p:spPr>
          <a:xfrm>
            <a:off x="0" y="281952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- اهداف باید با هم همخوانی و توافق داشته باش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- در تعیین اهداف باید به « </a:t>
            </a:r>
            <a:r>
              <a:rPr b="1" lang="fa-IR" sz="3200" spc="-1" strike="noStrike">
                <a:solidFill>
                  <a:srgbClr val="eaeaea"/>
                </a:solidFill>
                <a:latin typeface="Tahoma"/>
              </a:rPr>
              <a:t>هزینه فرصت از دست رفته </a:t>
            </a: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» یا عدم النفع توجه داشت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0" name="Rectangle 4"/>
          <p:cNvSpPr/>
          <p:nvPr/>
        </p:nvSpPr>
        <p:spPr>
          <a:xfrm>
            <a:off x="0" y="36576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ecff"/>
                </a:solidFill>
                <a:latin typeface="Tahoma"/>
              </a:rPr>
              <a:t>پیش نگری عبارت است از فراگرد استفاده از اطلاعات گذشته و حال برای تخمین شرایط و رویدادهای آینده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1" name="Rectangle 5"/>
          <p:cNvSpPr/>
          <p:nvPr/>
        </p:nvSpPr>
        <p:spPr>
          <a:xfrm>
            <a:off x="0" y="2590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پیش نگر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4" name="Rectangle 4"/>
          <p:cNvSpPr/>
          <p:nvPr/>
        </p:nvSpPr>
        <p:spPr>
          <a:xfrm>
            <a:off x="5258880" y="365760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cc66"/>
                </a:solidFill>
                <a:latin typeface="Tahoma"/>
              </a:rPr>
              <a:t>روشهای پیش نگر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5" name="Rectangle 5"/>
          <p:cNvSpPr/>
          <p:nvPr/>
        </p:nvSpPr>
        <p:spPr>
          <a:xfrm>
            <a:off x="2057400" y="312408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66ff99"/>
                </a:solidFill>
                <a:latin typeface="Tahoma"/>
              </a:rPr>
              <a:t>ساده - تخصصی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6" name="Rectangle 6"/>
          <p:cNvSpPr/>
          <p:nvPr/>
        </p:nvSpPr>
        <p:spPr>
          <a:xfrm>
            <a:off x="1905120" y="411480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66ff99"/>
                </a:solidFill>
                <a:latin typeface="Tahoma"/>
              </a:rPr>
              <a:t>ساده ترین روش حدس و گمان است.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7" name="Line 7"/>
          <p:cNvSpPr/>
          <p:nvPr/>
        </p:nvSpPr>
        <p:spPr>
          <a:xfrm>
            <a:off x="4495680" y="3429000"/>
            <a:ext cx="1295640" cy="533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8" name="Line 8"/>
          <p:cNvSpPr/>
          <p:nvPr/>
        </p:nvSpPr>
        <p:spPr>
          <a:xfrm flipV="1">
            <a:off x="4495680" y="3962520"/>
            <a:ext cx="1295640" cy="457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9" name="Rectangle 9"/>
          <p:cNvSpPr/>
          <p:nvPr/>
        </p:nvSpPr>
        <p:spPr>
          <a:xfrm>
            <a:off x="304920" y="2209680"/>
            <a:ext cx="8839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روشها و فنون پیش نگر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0" name="Rectangle 10"/>
          <p:cNvSpPr/>
          <p:nvPr/>
        </p:nvSpPr>
        <p:spPr>
          <a:xfrm>
            <a:off x="0" y="5410080"/>
            <a:ext cx="8839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6600"/>
                </a:solidFill>
                <a:latin typeface="Arial"/>
              </a:rPr>
              <a:t>پیچیده: </a:t>
            </a:r>
            <a:r>
              <a:rPr b="1" lang="fa-IR" sz="3200" spc="-1" strike="noStrike">
                <a:solidFill>
                  <a:srgbClr val="ff9933"/>
                </a:solidFill>
                <a:latin typeface="Arial"/>
              </a:rPr>
              <a:t>روشهای ریاضی </a:t>
            </a:r>
            <a:r>
              <a:rPr b="1" lang="ar-SA" sz="3200" spc="-1" strike="noStrike">
                <a:solidFill>
                  <a:srgbClr val="ff9933"/>
                </a:solidFill>
                <a:latin typeface="Arial"/>
              </a:rPr>
              <a:t>–</a:t>
            </a:r>
            <a:r>
              <a:rPr b="1" lang="fa-IR" sz="3200" spc="-1" strike="noStrike">
                <a:solidFill>
                  <a:srgbClr val="ff9933"/>
                </a:solidFill>
                <a:latin typeface="Arial"/>
              </a:rPr>
              <a:t> مدل های اقتصاد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4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800"/>
                            </p:stCondLst>
                            <p:childTnLst>
                              <p:par>
                                <p:cTn id="4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300"/>
                            </p:stCondLst>
                            <p:childTnLst>
                              <p:par>
                                <p:cTn id="4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5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3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6800"/>
                            </p:stCondLst>
                            <p:childTnLst>
                              <p:par>
                                <p:cTn id="4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4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8800"/>
                            </p:stCondLst>
                            <p:childTnLst>
                              <p:par>
                                <p:cTn id="4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93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943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نام درس: مدیریت آمزشگاهی</a:t>
            </a:r>
            <a:br>
              <a:rPr sz="4800"/>
            </a:b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نام کتاب:مقدمات مدیریت آموزشی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Verdana"/>
              </a:rPr>
              <a:t>         </a:t>
            </a: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نام مؤلف:دکتر علی علاقه بند</a:t>
            </a:r>
            <a:br>
              <a:rPr sz="4800"/>
            </a:b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مدرس: یگانه</a:t>
            </a: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تعداد واحد: </a:t>
            </a: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3" name="Rectangle 4"/>
          <p:cNvSpPr/>
          <p:nvPr/>
        </p:nvSpPr>
        <p:spPr>
          <a:xfrm>
            <a:off x="0" y="365760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بودجه بندی مترادف برنامه ریزی نیست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بودجه بندی یعنی تعیین اینکه چه مقدار از کل منابع سازمان به اهداف خاص اختصاص یافته است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4" name="Rectangle 5"/>
          <p:cNvSpPr/>
          <p:nvPr/>
        </p:nvSpPr>
        <p:spPr>
          <a:xfrm>
            <a:off x="0" y="2590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بودجه بند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866920" y="1598760"/>
            <a:ext cx="281484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7" name="AutoShape 4"/>
          <p:cNvSpPr/>
          <p:nvPr/>
        </p:nvSpPr>
        <p:spPr>
          <a:xfrm>
            <a:off x="6019920" y="4114800"/>
            <a:ext cx="1904760" cy="990720"/>
          </a:xfrm>
          <a:prstGeom prst="flowChartPreparation">
            <a:avLst/>
          </a:prstGeom>
          <a:solidFill>
            <a:srgbClr val="eaeaea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00"/>
                </a:solidFill>
                <a:latin typeface="Tahoma"/>
              </a:rPr>
              <a:t>موقت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8" name="AutoShape 5"/>
          <p:cNvSpPr/>
          <p:nvPr/>
        </p:nvSpPr>
        <p:spPr>
          <a:xfrm>
            <a:off x="3581280" y="2666880"/>
            <a:ext cx="1905120" cy="838440"/>
          </a:xfrm>
          <a:prstGeom prst="flowChartPreparation">
            <a:avLst/>
          </a:prstGeom>
          <a:solidFill>
            <a:srgbClr val="eaeaea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00"/>
                </a:solidFill>
                <a:latin typeface="Tahoma"/>
              </a:rPr>
              <a:t>کوتاه مدت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9" name="AutoShape 6"/>
          <p:cNvSpPr/>
          <p:nvPr/>
        </p:nvSpPr>
        <p:spPr>
          <a:xfrm>
            <a:off x="6019920" y="2666880"/>
            <a:ext cx="1904760" cy="914400"/>
          </a:xfrm>
          <a:prstGeom prst="flowChartPreparation">
            <a:avLst/>
          </a:prstGeom>
          <a:solidFill>
            <a:srgbClr val="eaeaea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00"/>
                </a:solidFill>
                <a:latin typeface="Tahoma"/>
              </a:rPr>
              <a:t>ثابت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50" name="AutoShape 7"/>
          <p:cNvSpPr/>
          <p:nvPr/>
        </p:nvSpPr>
        <p:spPr>
          <a:xfrm>
            <a:off x="990720" y="2590920"/>
            <a:ext cx="1904760" cy="914400"/>
          </a:xfrm>
          <a:prstGeom prst="flowChartPreparation">
            <a:avLst/>
          </a:prstGeom>
          <a:solidFill>
            <a:srgbClr val="eaeaea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00"/>
                </a:solidFill>
                <a:latin typeface="Tahoma"/>
              </a:rPr>
              <a:t>راهبردی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51" name="AutoShape 10"/>
          <p:cNvSpPr/>
          <p:nvPr/>
        </p:nvSpPr>
        <p:spPr>
          <a:xfrm>
            <a:off x="3581280" y="4114800"/>
            <a:ext cx="1905120" cy="914400"/>
          </a:xfrm>
          <a:prstGeom prst="flowChartPreparation">
            <a:avLst/>
          </a:prstGeom>
          <a:solidFill>
            <a:srgbClr val="eaeaea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00"/>
                </a:solidFill>
                <a:latin typeface="Tahoma"/>
              </a:rPr>
              <a:t>میان مدت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52" name="AutoShape 11"/>
          <p:cNvSpPr/>
          <p:nvPr/>
        </p:nvSpPr>
        <p:spPr>
          <a:xfrm>
            <a:off x="990720" y="4114800"/>
            <a:ext cx="1904760" cy="914400"/>
          </a:xfrm>
          <a:prstGeom prst="flowChartPreparation">
            <a:avLst/>
          </a:prstGeom>
          <a:solidFill>
            <a:srgbClr val="eaeaea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00"/>
                </a:solidFill>
                <a:latin typeface="Tahoma"/>
              </a:rPr>
              <a:t>عملیاتی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53" name="AutoShape 12"/>
          <p:cNvSpPr/>
          <p:nvPr/>
        </p:nvSpPr>
        <p:spPr>
          <a:xfrm>
            <a:off x="3581280" y="5486400"/>
            <a:ext cx="1905120" cy="914400"/>
          </a:xfrm>
          <a:prstGeom prst="flowChartPreparation">
            <a:avLst/>
          </a:prstGeom>
          <a:solidFill>
            <a:srgbClr val="eaeaea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00"/>
                </a:solidFill>
                <a:latin typeface="Tahoma"/>
              </a:rPr>
              <a:t>دراز مدت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54" name="Rectangle 13"/>
          <p:cNvSpPr/>
          <p:nvPr/>
        </p:nvSpPr>
        <p:spPr>
          <a:xfrm>
            <a:off x="2438280" y="1828800"/>
            <a:ext cx="342432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cc99"/>
                </a:solidFill>
                <a:latin typeface="Arial"/>
              </a:rPr>
              <a:t>«انواع برنامه ها» 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cover dir="r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10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700"/>
                            </p:stCondLst>
                            <p:childTnLst>
                              <p:par>
                                <p:cTn id="5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7600"/>
                            </p:stCondLst>
                            <p:childTnLst>
                              <p:par>
                                <p:cTn id="5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8900"/>
                            </p:stCondLst>
                            <p:childTnLst>
                              <p:par>
                                <p:cTn id="5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2100"/>
                            </p:stCondLst>
                            <p:childTnLst>
                              <p:par>
                                <p:cTn id="5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7" name="Rectangle 4"/>
          <p:cNvSpPr/>
          <p:nvPr/>
        </p:nvSpPr>
        <p:spPr>
          <a:xfrm>
            <a:off x="0" y="36576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99ff"/>
                </a:solidFill>
                <a:latin typeface="Tahoma"/>
              </a:rPr>
              <a:t>- برنامه ریزی مؤثر ، کنترل را امکان پذیر می ک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99ff"/>
                </a:solidFill>
                <a:latin typeface="Tahoma"/>
              </a:rPr>
              <a:t>- برنامه ها را هدایت و رهبری می کند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99ff"/>
                </a:solidFill>
                <a:latin typeface="Tahoma"/>
              </a:rPr>
              <a:t>- میزان بلاتکلیفی را کاهش می ده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اهمیت برنامه ریز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5" descr="SuperStock_143-322B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960" name="WordArt 6"/>
          <p:cNvSpPr txBox="1"/>
          <p:nvPr/>
        </p:nvSpPr>
        <p:spPr>
          <a:xfrm>
            <a:off x="3505320" y="1828800"/>
            <a:ext cx="22096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پایان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3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Rectangle 4"/>
          <p:cNvSpPr/>
          <p:nvPr/>
        </p:nvSpPr>
        <p:spPr>
          <a:xfrm>
            <a:off x="3186360" y="4876920"/>
            <a:ext cx="65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دو مفهوم اساسی در این تعریف: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64" name="Rectangle 5"/>
          <p:cNvSpPr/>
          <p:nvPr/>
        </p:nvSpPr>
        <p:spPr>
          <a:xfrm>
            <a:off x="609480" y="41911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b7b6a3"/>
                </a:solidFill>
                <a:latin typeface="Tahoma"/>
              </a:rPr>
              <a:t> </a:t>
            </a:r>
            <a:r>
              <a:rPr b="1" lang="fa-IR" sz="2800" spc="-1" strike="noStrike">
                <a:solidFill>
                  <a:srgbClr val="ccffff"/>
                </a:solidFill>
                <a:latin typeface="Tahoma"/>
              </a:rPr>
              <a:t>گزینش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65" name="Rectangle 6"/>
          <p:cNvSpPr/>
          <p:nvPr/>
        </p:nvSpPr>
        <p:spPr>
          <a:xfrm>
            <a:off x="1219320" y="5410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ffff"/>
                </a:solidFill>
                <a:latin typeface="Tahoma"/>
              </a:rPr>
              <a:t>حل مسأله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66" name="Line 7"/>
          <p:cNvSpPr/>
          <p:nvPr/>
        </p:nvSpPr>
        <p:spPr>
          <a:xfrm>
            <a:off x="2895480" y="4724280"/>
            <a:ext cx="1295640" cy="533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67" name="Line 8"/>
          <p:cNvSpPr/>
          <p:nvPr/>
        </p:nvSpPr>
        <p:spPr>
          <a:xfrm flipV="1">
            <a:off x="2895480" y="5257800"/>
            <a:ext cx="1295640" cy="457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68" name="Rectangle 9"/>
          <p:cNvSpPr/>
          <p:nvPr/>
        </p:nvSpPr>
        <p:spPr>
          <a:xfrm>
            <a:off x="304920" y="2286000"/>
            <a:ext cx="8839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66ccff"/>
                </a:solidFill>
                <a:latin typeface="Tahoma"/>
              </a:rPr>
              <a:t>« تصمیم گیر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69" name="Rectangle 10"/>
          <p:cNvSpPr/>
          <p:nvPr/>
        </p:nvSpPr>
        <p:spPr>
          <a:xfrm>
            <a:off x="0" y="3124080"/>
            <a:ext cx="8839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تعریف تصمیم گیری: 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فراگردی که طی آن شیوه عمل خاصی برای حل مسأله یا مشکل ویژه برگزیده می شو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3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3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4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9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9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4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4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Rectangle 4"/>
          <p:cNvSpPr/>
          <p:nvPr/>
        </p:nvSpPr>
        <p:spPr>
          <a:xfrm>
            <a:off x="0" y="3200400"/>
            <a:ext cx="8686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تعریف و تشخیص مشکل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66ccff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66ccff"/>
                </a:solidFill>
                <a:latin typeface="Tahoma"/>
              </a:rPr>
              <a:t>- دست یابی به راه حل ها و یا شیوه های عمل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99ff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3399ff"/>
                </a:solidFill>
                <a:latin typeface="Tahoma"/>
              </a:rPr>
              <a:t>- ارزشیابی و گزینش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66ff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0066ff"/>
                </a:solidFill>
                <a:latin typeface="Tahoma"/>
              </a:rPr>
              <a:t>-اجرای تصمیم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73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r>
              <a:rPr b="1" lang="fa-IR" sz="3600" spc="-1" strike="noStrike">
                <a:solidFill>
                  <a:srgbClr val="ffcc99"/>
                </a:solidFill>
                <a:latin typeface="Tahoma"/>
              </a:rPr>
              <a:t>« مراحل تصمیم گیری »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0" y="266688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تصمیم گیری فراگردی منطقی و عقلائی است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اما همین فرآیند هرچه قدر هم منطقی صورت پذیرد ، باز هم خالی و اشتباه و خطا نیست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8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Rectangle 4"/>
          <p:cNvSpPr/>
          <p:nvPr/>
        </p:nvSpPr>
        <p:spPr>
          <a:xfrm>
            <a:off x="0" y="26668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مهمترین مشکل ، ناتوانی در کسب اطلاعات و استفاده از آن است. به همین دلیل مدیران با عقلانیت محدود عمل می کن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Rectangle 4"/>
          <p:cNvSpPr/>
          <p:nvPr/>
        </p:nvSpPr>
        <p:spPr>
          <a:xfrm>
            <a:off x="0" y="320040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تصمیمات سازمانی را می توان به دو دسته عمده تقسیم بندی کرد: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الف: تصمیمات معمول ( با برنامه )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ب: تصمیمات غیر معمول ( بی برنامه )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83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Tahoma"/>
              </a:rPr>
              <a:t>« انواع تصمیمات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Rectangle 4"/>
          <p:cNvSpPr/>
          <p:nvPr/>
        </p:nvSpPr>
        <p:spPr>
          <a:xfrm>
            <a:off x="0" y="335268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اهداف                        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استانداردها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رویه ها                      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روشها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5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مقررات                      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6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خط مشی ها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87" name="Rectangle 5"/>
          <p:cNvSpPr/>
          <p:nvPr/>
        </p:nvSpPr>
        <p:spPr>
          <a:xfrm>
            <a:off x="0" y="243828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r>
              <a:rPr b="1" lang="fa-IR" sz="3600" spc="-1" strike="noStrike">
                <a:solidFill>
                  <a:srgbClr val="ff6600"/>
                </a:solidFill>
                <a:latin typeface="Tahoma"/>
              </a:rPr>
              <a:t>رهنمودهای مهم در اتخاذ تصمیمات معمول سازمان: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Rectangle 4"/>
          <p:cNvSpPr/>
          <p:nvPr/>
        </p:nvSpPr>
        <p:spPr>
          <a:xfrm>
            <a:off x="0" y="4419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استانداردها: معیار یا ملاکی که بتوان چیزی را با آن مقایسه کرد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0" y="320040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اهداف: نتایج مطلوبی که سازمان در جهت آنها هدایت می شود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18:46:42Z</dcterms:created>
  <dc:creator>Amin</dc:creator>
  <dc:description/>
  <dc:language>en-US</dc:language>
  <cp:lastModifiedBy>Aramesh</cp:lastModifiedBy>
  <dcterms:modified xsi:type="dcterms:W3CDTF">2020-04-18T11:41:32Z</dcterms:modified>
  <cp:revision>357</cp:revision>
  <dc:subject/>
  <dc:title>بسم الله الرحمن الرحیم</dc:title>
</cp:coreProperties>
</file>