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113-1956-46FF-B51B-A660C651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2EE-1F06-454E-98A0-C531A6B6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958FB-1E93-475E-AAAA-F19C26A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F2040-8A6E-4D6A-853A-3EB84F7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3A308-DFFD-42F9-878F-DB916E9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171D4-7692-4C93-9286-A724459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10134-2E0D-45E2-9202-38896B6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8D189-9FB6-4264-90DC-77D333DB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FEEDC-306D-4C6E-8671-518CD8C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F1C7-C7AF-402F-A428-A1B61E91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5B9C-E341-44A7-882D-1421E1C6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5BB82-9A69-40F0-82FF-D92106C1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F9D-8A0F-41B1-AC45-6B1150E4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6665A-6D88-4449-8658-0C0302F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4A7BE-3BFD-4851-BF23-CCE96A1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5FB0C-1218-476C-BCF4-8D2744E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D52F7-2F10-4BC8-B325-8885C146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2CF91-33FD-43BE-97E1-5EB1ADC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79BCE-BE35-4A20-9A5D-B266C4A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3CC20-AD8B-4231-A055-96754C7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C8941-CA3D-436A-B00D-E04D95B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CBEB8-D164-492A-9A03-68BE9C5C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40DC7-2832-4B40-ADDD-CABF5EA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2F3-0A58-4B31-9619-FE3A678B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6AA38-EE6B-4EC9-9A3F-A181D067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F42-1587-457A-BD70-40AB5122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F9D2-2628-4855-8C93-10338CF8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BDB-7EE3-487C-9296-DF1321D1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25F1-BE85-42AC-AB55-612C8E7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B0AE-7A0E-412B-BDC5-5A742C2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36D-D36B-47D6-8AE7-A51690A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076-59D6-4670-B4F3-6B5CCEE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D59-1871-4458-9A82-5AE68437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8AE3-DFA0-4277-A03F-6C403B1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D632-76DA-453A-AF95-CA42FE6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DFB7-F76F-4F56-AC38-4329440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01B3-C42C-4ADA-9264-4497A899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C4EE-A66E-4992-843A-C1459B1D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D910B-C511-43FE-888B-F112878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4F9A9-3265-4A64-9135-757CF05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64C80-B6E0-4A1A-8B58-D8316B3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85DA4-B758-4637-A7D5-93B7482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64B4C-56CE-44F8-B342-9874083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2A-F8D5-43F8-977C-EA381F7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25E3E-CAB3-445E-ABCF-8B6BE690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9B268-3224-45EF-8FFB-853B9CC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7C609-753C-4D18-96D7-FABC2CCD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567B6-8DEA-41A6-AA62-D294BDB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24202-0476-4627-A8AD-77260D89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0CD1F-08FE-48CD-B8F3-202F1BC7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B141C-54C7-477B-B641-3F38E4E8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5A166-4DF7-4CBB-B31C-089FF79D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11463-6814-4915-9582-9BE1EF7E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FC681-B3CA-4A9F-A679-CA75957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AA6-5740-4371-A281-77D70DB7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B6F9C-773B-49A3-B01D-383FACF1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7BBEC-C604-47EE-9956-5F9E27E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FE5EB-3DC0-4B8A-ACFE-E0A418EE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B4CD8-E58F-4AA1-A1CF-ECB8100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521FA-5498-4BAD-B701-C540419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E2224-9933-4E49-A822-6A66ED5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49B5A-2AD3-41FF-B43E-9EE70A6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4E557-623B-4EE1-A553-68B0336C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DA216-F920-4CFC-B187-D71403D3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B971-D4C6-4D74-BBC4-E12D7C96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B3F-3CA1-4993-AAAD-1771364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0B1A-9479-459A-B20C-04640E7D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5C18-908A-4C0E-9E5F-2C6A435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F636-70F3-402D-890E-5AA52E8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E814-5263-4EEE-BCFD-BC91D6EB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8F1C-D2DA-4EF7-990A-CFD93126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1CEC-03E0-42BB-A5E6-BBAC96C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8486-FE40-4131-85A2-D1639A01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7E13-C651-4834-9A2D-548774BD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B2AA-72DC-42FD-942B-C96A771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B143-66AD-4C01-AE59-732C0F9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D84-39A2-4EC2-8757-FED140D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A36A-F900-4987-B850-97B5CCD5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BC065-BCC7-4195-AE24-293BF61B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87187-0098-4B46-BE6B-6E194499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E79DB-5CF2-4365-A22C-2CBA7D5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AB8E5-025C-4BDE-906E-66EF8B98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C738F-2921-4DCB-A8E0-140C741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24E94-5DFC-46C3-B39D-561CD0A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C827B-D275-40F3-8D47-3EC8246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2DABE-614D-4915-8F16-2AC8B56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B67E9-E0F0-4FA8-A75A-49F254A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4AF-6D71-4155-BB75-60AA622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9293D-0238-4E76-A9E9-9AC605D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445A7-876D-472A-8A7D-B6233EC3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8948D-6704-4356-8502-BFC3409D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62D9D-D03A-468C-9CE0-47746034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2C95-BA37-4636-8FB8-4A7704BE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6BAE-F4F6-416A-84C6-E1B40A7F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E2A11-4117-4FEE-BEE0-DB3ED8A5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6EC94-DF58-446F-9789-82BC22E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5207-4699-42B9-9E10-B1D3CA4B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F97D5-EBEA-4D37-8BD8-99C82F9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3B5-1011-430E-BEB4-86F5B7F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54224-8CA6-4A0E-92DA-712BF35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6C9D-E884-49AF-8F06-B07DD30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B321-1678-483F-895A-A4477C5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5495-8FB1-46F6-AC8C-F8269AFC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0DA1A-2B98-4444-B036-76D8ADCB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D12D4-DEAB-4500-A914-EEE59BF7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072C-72C2-4A55-A4C4-81756AF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ECA3-15DD-424F-901E-405EED78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BEEF-8BA5-4529-B655-14E6AF87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E38A-65F9-4245-B588-3938D51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38D-C9E5-4A72-A0CB-3D550B8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A9D0-A7F2-424D-A49E-C2E232EB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FEF2-28EA-450A-8154-E9BDCDA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63E4-7FBA-4821-8226-5D0413E8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4351-F948-4579-ADD8-4690F56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BD1C-A07E-4D08-9E3B-AD3BE38E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C87D-C0F7-4257-A66F-002CEFAF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77AD-D484-4851-A227-CAD96284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EB6EA-8C7F-46D9-9B9B-4F8BFCAE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506E8-5192-4718-9128-E993C7A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51076-1999-4AC3-8397-C7E18FD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FBB-C53A-4039-A211-09A5E654E7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B05-1BCB-4439-8C64-1022FA5504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8A1-04F0-482F-B265-6F42E8ED8C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025E-44DF-448F-BBEB-DAA2D5316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5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7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8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2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3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4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5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6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7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9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0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1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2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3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4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5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6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7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8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9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0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1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2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3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4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5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6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7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8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9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0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1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2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3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4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5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6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7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2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3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4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5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6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7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8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9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0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1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2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3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4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5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6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7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8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9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0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1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2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3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4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5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6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7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8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9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0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1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2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3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4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5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6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7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8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9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0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1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2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3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4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5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6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7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8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9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0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1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2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3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4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5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6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7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8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9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0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1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2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3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4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5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6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7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8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9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0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1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2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3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4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5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6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7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8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9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0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1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2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3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4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5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6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7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8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9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0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1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2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3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4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5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6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7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8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9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0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1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2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3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4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5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6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7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8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9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0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1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2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3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4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5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6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7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8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9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0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1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2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3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4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5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6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7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8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9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0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1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2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3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4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5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6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7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8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9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90D-331E-4DF2-9A93-5BE317830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9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E15-ECA8-460A-93CE-A2D796849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EEDD-870A-4E8C-BC5B-67A23BFC5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B5D-4DBB-4619-811B-F7715FBAD1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52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EA3-0C90-409B-8029-5322F4822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73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4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6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7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9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0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1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2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3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4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5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6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7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8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9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0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1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2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3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4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5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6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7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8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9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0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1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2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3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4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5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6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7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8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9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0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1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2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3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4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5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6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7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8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9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0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1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2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3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4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5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6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7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8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9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0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1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2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3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4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5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6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7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8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9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0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1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2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3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4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5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6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7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8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9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0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1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2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3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4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5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6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7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8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9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0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1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2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3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4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5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6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7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8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9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0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1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2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3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4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5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6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7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8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9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0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1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2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3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4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5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6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7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8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9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0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1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2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3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4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5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6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7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8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9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0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1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2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3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4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6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7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8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9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0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1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2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3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4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5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6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7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8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9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0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1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2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3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4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5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6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7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8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9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0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1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2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3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4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5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6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7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8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9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0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1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2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3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4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5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6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7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8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9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0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1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2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3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4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5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6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7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8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9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0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1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2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3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4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5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6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7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8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9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0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1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2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3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4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5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6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7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CCE-98C3-4D33-A26E-ABA34181A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3505320"/>
            <a:ext cx="8686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عناصر و ویژگیهای مشترک سازمانها 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سازمانها هدف دار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از ترکیب اجتماعی افراد تشکیل شده ان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Arial"/>
              </a:rPr>
              <a:t>« سازمان و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0" y="266688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آنها استمرار زمانی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خود را با استفاده از دانش انجام می ده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سازمانها ساختارمند و عقلائی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0" y="35812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مشترک المناف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سازمانهای تجار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خدمات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رفاه عموم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0" y="25146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0099ff"/>
                </a:solidFill>
                <a:latin typeface="Arial"/>
              </a:rPr>
              <a:t>انواع سازمانها از دیدگاه « بلا واسکات »: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3352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نر انجام کار بوسیله دیگران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ایجار محیط مؤثر برای اعضاء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ماهنگ سازی منابع سه گانه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فراگرد تبدیل اطلاعات به عمل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ریف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0" y="335268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منظم و سازمان یافت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 هدف مند بود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روابط میان مناب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انجام کار بوسیله دیگر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تصمیم گیر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Arial"/>
              </a:rPr>
              <a:t> « ملاک های لازم برای مدیریت در سازمان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0481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باید کر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انجا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تقسی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کسانی کار را انجام خواهند دا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7432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وسایلی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ظرف چه مدت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7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کیفیتی باید انجام شو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8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عملا با چه کیفیتی انجام می شود؟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Arial"/>
              </a:rPr>
              <a:t> « کارکردهای مدیریت 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4"/>
          <p:cNvSpPr/>
          <p:nvPr/>
        </p:nvSpPr>
        <p:spPr>
          <a:xfrm>
            <a:off x="1447920" y="33526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هماهنگ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AutoShape 5"/>
          <p:cNvSpPr/>
          <p:nvPr/>
        </p:nvSpPr>
        <p:spPr>
          <a:xfrm>
            <a:off x="3505320" y="42670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برنامه ریز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2" name="AutoShape 6"/>
          <p:cNvSpPr/>
          <p:nvPr/>
        </p:nvSpPr>
        <p:spPr>
          <a:xfrm>
            <a:off x="152388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b5b89"/>
                </a:solidFill>
                <a:latin typeface="Tahoma"/>
              </a:rPr>
              <a:t>کنتر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3" name="AutoShape 7"/>
          <p:cNvSpPr/>
          <p:nvPr/>
        </p:nvSpPr>
        <p:spPr>
          <a:xfrm>
            <a:off x="548640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فر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4" name="AutoShape 8"/>
          <p:cNvSpPr/>
          <p:nvPr/>
        </p:nvSpPr>
        <p:spPr>
          <a:xfrm>
            <a:off x="5410080" y="3352680"/>
            <a:ext cx="167652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ساز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3522960" y="38098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برنامه ریز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3997800" y="5334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هدای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5054760" y="45720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سازمانده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703600" y="45720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کنترل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1" name="Line 13"/>
          <p:cNvSpPr/>
          <p:nvPr/>
        </p:nvSpPr>
        <p:spPr>
          <a:xfrm>
            <a:off x="3276720" y="35053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2" name="Line 23"/>
          <p:cNvSpPr/>
          <p:nvPr/>
        </p:nvSpPr>
        <p:spPr>
          <a:xfrm>
            <a:off x="4648320" y="4419720"/>
            <a:ext cx="0" cy="91440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3" name="Line 24"/>
          <p:cNvSpPr/>
          <p:nvPr/>
        </p:nvSpPr>
        <p:spPr>
          <a:xfrm>
            <a:off x="4267080" y="4876920"/>
            <a:ext cx="83844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0" y="2209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ffff"/>
                </a:solidFill>
                <a:latin typeface="Tahoma"/>
              </a:rPr>
              <a:t>« روابط متقابل کارکردهای مدیریت »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5" name="AutoShape 31"/>
          <p:cNvSpPr/>
          <p:nvPr/>
        </p:nvSpPr>
        <p:spPr>
          <a:xfrm flipH="1" flipV="1">
            <a:off x="3276000" y="3961800"/>
            <a:ext cx="533160" cy="60948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6" name="AutoShape 32"/>
          <p:cNvSpPr/>
          <p:nvPr/>
        </p:nvSpPr>
        <p:spPr>
          <a:xfrm rot="5400000">
            <a:off x="3161880" y="5143680"/>
            <a:ext cx="762120" cy="53316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7" name="AutoShape 33"/>
          <p:cNvSpPr/>
          <p:nvPr/>
        </p:nvSpPr>
        <p:spPr>
          <a:xfrm flipH="1" flipV="1" rot="10638600">
            <a:off x="5332680" y="5180040"/>
            <a:ext cx="533160" cy="610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34"/>
          <p:cNvSpPr/>
          <p:nvPr/>
        </p:nvSpPr>
        <p:spPr>
          <a:xfrm flipH="1" flipV="1" rot="5400000">
            <a:off x="5295600" y="4075920"/>
            <a:ext cx="685800" cy="457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9500"/>
                            </p:stCondLst>
                            <p:childTnLst>
                              <p:par>
                                <p:cTn id="4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0" y="32004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نتی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شیوه بررسی مو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رفتار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دیدگاه تصمیم گی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مقداری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یست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شیوه های مطالعه مدیریت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و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درس مدیریت یکی از دروس اصلی رشته علوم تربیتی با گرایش های مدیریت و برنامه ریزی و دبستانی و پیش دبستانی اس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0" y="2209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e5e5ff"/>
                </a:solidFill>
                <a:latin typeface="Tahoma"/>
              </a:rPr>
              <a:t>به طور کلی هدف از تألیف کتاب ، زمینه سازی برای شناخت علمی مدیریت و رهبری در آموزش و پرورش و تفکر درباره مسائل آن است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123720" y="3594240"/>
            <a:ext cx="2971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WordArt 4"/>
          <p:cNvSpPr txBox="1"/>
          <p:nvPr/>
        </p:nvSpPr>
        <p:spPr>
          <a:xfrm>
            <a:off x="2895480" y="160020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259092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جامعه امروز یک جامعه سازمانی است.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از ابتدای تاریخ ضرورت زندگی اجتماعی ، انسانها را دور هم جمع کرده است.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762120" y="1676520"/>
            <a:ext cx="7467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350532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هرگاه افراد انسان که با هم زندگی می کنند یا به اقتضای زندگی اجتماعی دور هم جمع می شوند ، الگویی را به وجود می آورند که اصطلاحا سازمان اجتماعی نام دارد.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Garamond"/>
              </a:rPr>
              <a:t>« سازمان اجتماع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00"/>
                </a:solidFill>
                <a:latin typeface="Garamond"/>
              </a:rPr>
              <a:t>سازمان اجتماعی : </a:t>
            </a:r>
            <a:r>
              <a:rPr b="1" lang="fa-IR" sz="3200" spc="-1" strike="noStrike">
                <a:solidFill>
                  <a:srgbClr val="e5e5ff"/>
                </a:solidFill>
                <a:latin typeface="Garamond"/>
              </a:rPr>
              <a:t>الگوی روابط اجتماعی ، باورها ، جهت گیریهای مشترک را شامل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سازمان دارای دو وجه اصلی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44956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سازمانها از یک منظر بر دو نوع هستن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سم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غیر رس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22860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الگو یا ساختار روابط اجتما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مجموعه باورها و جهت گیری های مشتر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0" y="266688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00ffff"/>
                </a:solidFill>
                <a:latin typeface="Garamond"/>
              </a:rPr>
              <a:t>مجموعه این وظایف « سرپرستی و نظارت ، هماهنگی ، هدایت،» که رفتار و فعالیت سازمانی را در مسیر هدف تنظیم،تصحیح،تقویت و راهنمایی می کند ، مدیریت نام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25:17Z</dcterms:modified>
  <cp:revision>358</cp:revision>
  <dc:subject/>
  <dc:title>بسم الله الرحمن الرحیم</dc:title>
</cp:coreProperties>
</file>