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79DC-2F9E-462D-89DE-AD543B8793A6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91E9-DB40-4C38-858C-0CBC592196B6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D933-055D-47CF-B20B-E595D6F14EA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7537-6CB0-4EE4-9D5F-82AEBC7E6AF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B56C-8E73-4353-9F6F-5236661172D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D725-EA24-42C9-B048-4404507BF1E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C1BC-C668-4AC7-8922-DDCD2274BC7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670D-EEE3-4333-9288-66AF24DD851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E6AB-819F-47B2-8599-C2941F95F4B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99AE-823D-4329-9680-29ECE1842A5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D8B0-3319-4257-9D2A-7C855443576C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1F8F-DC9E-462B-95C2-6B9DB441FC21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B806-D296-4237-A67C-E3DA5C843F0C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9E36-2C28-4C04-B8E7-4534D18395AC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C1CA-8352-4BE7-8163-6EBF9D229611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E62-9DA1-40CB-80E2-73CFF7339CE1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3548-910F-424B-A1BB-F46923A14C7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5797-F4C4-4AF7-A240-19947E3BAB2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AA59-502F-4A4E-98F4-18568331B25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C1F7-EAF7-42B3-B587-F81397EF77F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A8EA-F695-4B1E-9FB5-E4A4B640F13C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57A-5B9A-4CA3-B7F6-0E33543A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5E1-C178-432F-9BF0-C71C31EA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1A8-3EBA-4C39-90F3-5D9400A1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66C-0B3D-4055-B7E7-02A44EF9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54A-7C3E-4ACE-884C-B9AFE45B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8FAC-3F72-4D2E-806B-BC13513E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7D51-A064-48B1-93FD-3E49D1A3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733E-4626-4502-B191-6EE5C5FA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2C17-91DC-47C2-9A16-D40E74AF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6F0B-8CC2-4679-958F-FAA195F6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DFEA-B501-4035-8120-AC0FE7C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E0F-BE37-410C-BBF0-71E75F35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1F5-460A-4485-987F-FDCA871E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CBA2-1CB8-4FA9-83BC-34AB989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3FC5-D9A5-4374-BF66-138DC420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4982-C208-466F-B7B9-605491C7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CB06-9B13-407E-BEEE-3979141E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1B093-2AE6-439A-900E-8EAB1B8E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2637D-DF7D-4E59-9E01-0A95A645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92332-EBF0-47AB-AF6F-D8EA6DA1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1639A-81D1-4EDB-90F0-5CB1CAF9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B6BFF-D71E-4B8B-B466-F19DFF28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A70-22E4-406F-A71E-EA732DD1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08B07-F88D-4A06-A625-4D9650E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A512E-86F2-40DB-AFA1-77D86B3F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C7E99-1F18-4BF8-81CC-B2E06CEE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5B160-F10B-422A-B191-15DA54FE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30978-12F6-4D7F-A044-03307E81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2E83B-C4DA-4D2D-8030-8A5E7C00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3E0DF-F67E-4653-83B9-8550B93E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CD6B-C3FB-453C-BA05-C600621D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0C18-785F-44FD-ACFF-4B2F3745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001BA-EF66-41B6-9B10-73F35EA8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57D-2E5F-4AA1-BFB8-320EBDAC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64F7-7062-4DE2-BCD4-A45F6906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7AF4-F31B-484A-98E8-6F5CF5DA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AE58-8352-45AC-AA79-F9BE3BF6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BEBA2-B47A-4EA8-9179-DB1234F4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C16A-F665-456B-80DC-8C231B4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D393-98E6-4D25-8168-C0C159C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74DED-2E60-4192-A6A3-AFF542D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9B7B7-E66D-4203-98C1-7D9A7989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F436-3F9B-4736-AB40-907AAB20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5E90-7C51-4E36-BE1B-0D4C7A6D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AA4-A2F6-4D3F-85A9-0D2EA4F6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6CCB-7A69-4B6B-86F2-A20ADF96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B4548-15B2-4567-814D-96E7479F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DFA74-CBF5-411F-B1FA-3E69673D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0034-2340-4B30-8D48-33DFF936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EFD83-6D68-4A65-8809-D01C8C4F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DAE7-870E-4634-BE5D-988DD60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B1FE7-5FE1-48E3-A912-2FAFD6B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F70DB-C50E-406A-8AF6-97FA526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E02CD-D7A0-4A54-880D-45721E76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6971B-0C88-48AC-AB21-2CD321EB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A1B-8A53-4A49-BCFD-8CA3CFF3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17DCF-96B5-4CCB-B0BE-F762C529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EC32D-8489-4276-8398-E808C695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DED17-0236-48F9-8ACA-FEE10CA3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BA7F3-25B5-4941-8069-5282B100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6AD96-AA62-4768-8D51-0138A0D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354D9-D475-4048-B9F5-D1BD8F1F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AA0C-F389-4455-A53A-E982636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DDD40-CB95-4E75-BE21-C48CA81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C7967-63D8-4BAA-B447-599E29F2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72DB-6C45-4B4B-9114-A9D9023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10C-019F-429A-AD1C-038A4EE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3AFFF-EB33-465F-97A0-7600EC1E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DA455-A77F-4CE0-BAB4-39AEC3D9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CB417-AE03-4B14-8EDE-EDBF7B8E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F07D-40D6-4026-B44C-8D0197D0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B351D-FA49-424B-B535-07324A26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69315-1F61-4427-A690-5804A102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CE87B-4BAB-4ABE-9DC4-C5C44975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883F1-9634-43B3-89FB-39A20794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213B-3A5D-4E4F-BCB1-9C0249C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DF903-8CB8-426C-A357-6406D9AA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2F7-CA4D-4A81-896C-0F25490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9F30-4FC0-4009-A32C-2E3B4469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53E96-8B11-4607-82B4-EE8655DB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A116A-4C9C-4FA1-AB8E-0C5A3C2E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6171C-8408-400D-A5BD-A3F0D997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E3F57-049F-4B5C-94E0-95C279B7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7F4A3E-603F-4498-B0B9-82B4F65C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90EFE-C53F-4E4B-B316-1387405C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94DCD0-9F21-4D67-90DC-9FEA8175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9688D1-1915-4294-85C9-8F13E165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2479ED-DCD3-4C22-BEBE-1E71D28B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0D6-A55B-477A-BEA6-D7698E2B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799FB-9A86-479C-9641-9CCE4BF8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14A66-1740-4EAE-88E2-943A737A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A699F4-9BA1-442F-9F51-09E8BC2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B9A14-F120-4916-89AA-D2782D64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8D4A9-082B-4684-8A20-9B39EB08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1C9C77-57D5-4E39-B4F3-CF6FB2F9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D6CCE-EB8D-46D1-957B-6DEB792B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6148-4AA6-4387-BC72-3BBBBF41BDEF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D78B-3316-4629-9E71-441900C1EAAA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0548-8D60-490C-8731-1795D4D38687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1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0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2A2B-6D4E-462E-B158-C977FF409DDA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8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67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CD1D-BA59-4448-806E-02CCAD32AA8B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1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1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5F06-5FF3-4838-90E9-5D174CEDD4FA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993D-C3EE-4DE2-832B-DF38D7E1C8E7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3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7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B763-34E2-45E4-B78F-62F13443FAF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635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درس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ea typeface="B Sina"/>
              </a:rPr>
              <a:t> روش تحقیق و آمار در علوم تربیتی و روانشناس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تعداد واحد درسی </a:t>
            </a:r>
            <a:r>
              <a:rPr b="0" lang="fa-IR" sz="2400" spc="-1" strike="noStrike">
                <a:solidFill>
                  <a:srgbClr val="ffff00"/>
                </a:solidFill>
                <a:latin typeface="Arial"/>
                <a:ea typeface="B Sina"/>
              </a:rPr>
              <a:t>3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منبع 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cs typeface="B Sina"/>
              </a:rPr>
              <a:t>روش تحقیق در روان شناسی و علوم تربیت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ولف: دکترعلی دلاور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درس: یگانه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3e3ff"/>
                </a:solidFill>
                <a:latin typeface="Arial"/>
                <a:cs typeface="B Zar"/>
              </a:rPr>
              <a:t>فرمول برآورداندازه نمونه برای مقایسه دو گروه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B Zar"/>
              </a:rPr>
              <a:t>فرمول برآورد اندازه نمونه برای یک گرو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6"/>
              <p:cNvSpPr txBox="1"/>
              <p:nvPr/>
            </p:nvSpPr>
            <p:spPr>
              <a:xfrm>
                <a:off x="838080" y="1295280"/>
                <a:ext cx="24386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7"/>
              <p:cNvSpPr txBox="1"/>
              <p:nvPr/>
            </p:nvSpPr>
            <p:spPr>
              <a:xfrm>
                <a:off x="838080" y="2895480"/>
                <a:ext cx="22100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در مطالعات همبستگی حجم نمونه حداقل بایستی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30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 نفر باشد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5962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تحقیق تاریخی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ای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با ماهیت واهداف پژوهش تاریخی آشنا شو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راحل پژوهش تاریخی را نام ببری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نابع مدارک تاریخی را بشناس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براساس گفته قدمای یونان ، تاریخ عبارت است از پژوهش به منظور باز سازی اتفاقات گذشت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ویژگیهای پژوهش تاریخی 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پیچیدگی نسبی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گاهی ناقص بودن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عدم توانایی در آزمون آنها به صورت آزمایشی وکنترل شرا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نسبی بودن معیارهای تجزیه وتحلی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5e5ff"/>
                </a:solidFill>
                <a:latin typeface="Garamond"/>
                <a:cs typeface="B Zar"/>
              </a:rPr>
              <a:t>پژوهش تاریخی را می توان بر اساس ملاکهای زیر طبقه بندی کرد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رو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وضو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کنی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اهداف پژوهش تاریخی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هدف مقدماتی آن بدست آوردن دیدگاه روشنی از زمان حال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حرک اصلی آن تمایلات مورخ در دستیابی به حقایق گذشته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مراحل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عریف ومحدود کردن مسأل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صورتبندی کردن فرض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جمع آوری کردن اطلاعا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ارزشیابی اطلاعات ومناب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جزیه وتحلیل و نتیجه گی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6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هیه گزار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Content Placeholder 224261"/>
          <p:cNvGrpSpPr/>
          <p:nvPr/>
        </p:nvGrpSpPr>
        <p:grpSpPr>
          <a:xfrm>
            <a:off x="457200" y="685800"/>
            <a:ext cx="8228160" cy="3809160"/>
            <a:chOff x="457200" y="685800"/>
            <a:chExt cx="8228160" cy="3809160"/>
          </a:xfrm>
        </p:grpSpPr>
        <p:cxnSp>
          <p:nvCxnSpPr>
            <p:cNvPr id="532" name="_s4100"/>
            <p:cNvCxnSpPr>
              <a:stCxn id="533" idx="3"/>
              <a:endCxn id="534" idx="2"/>
            </p:cNvCxnSpPr>
            <p:nvPr/>
          </p:nvCxnSpPr>
          <p:spPr>
            <a:xfrm flipV="1">
              <a:off x="5393880" y="1637280"/>
              <a:ext cx="823320" cy="2381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4101"/>
            <p:cNvCxnSpPr>
              <a:stCxn id="536" idx="3"/>
              <a:endCxn id="534" idx="2"/>
            </p:cNvCxnSpPr>
            <p:nvPr/>
          </p:nvCxnSpPr>
          <p:spPr>
            <a:xfrm flipV="1">
              <a:off x="5393880" y="1637280"/>
              <a:ext cx="823320" cy="952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4" name="_s4102"/>
            <p:cNvSpPr/>
            <p:nvPr/>
          </p:nvSpPr>
          <p:spPr>
            <a:xfrm>
              <a:off x="3748320" y="68580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طبقه بندی منابع تاریخ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4103"/>
            <p:cNvSpPr/>
            <p:nvPr/>
          </p:nvSpPr>
          <p:spPr>
            <a:xfrm>
              <a:off x="457200" y="211428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اسناد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4104"/>
            <p:cNvSpPr/>
            <p:nvPr/>
          </p:nvSpPr>
          <p:spPr>
            <a:xfrm>
              <a:off x="457200" y="354276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آثار و ابنیه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اول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توسط مشاهده واقعی حادثه ارائه شده اند در حالیکه </a:t>
            </a: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دوم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از طریق واسطه به پژوهشگر رسیده اند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فصل پنجم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جامعه پژوهشی را تعریف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ضمن تعریف نمونه گیری ، انواع آن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روشهای بر آورد حجم نمونه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نقد یا اعتبار بیرونی ، سندیت مدرک یا اثر مورد ارزشیابی قرار می گیرد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اعتبار درونی ، انگیزه ، تمایلات و محدودیتهای صاحب منبع مورد نظر اس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اولین قدم در نمونه گیری ، تعریف جامعه مورد نظر است وآن عبارت است از اینکه اعضای واقعی یا فرضی که علاقمند هستیم یافته های پژوهش را به آنها تعمیم دهی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نمونه گیری یعنی انتخاب تعدادی از افراد ،حوادث یا اشیاء از یک جامعه تعریف شده به عنوان نماینده آن جامع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مزیت انتخاب یک نمونه از یک جامعه ،جلوگیری از اتلاف وقت وصرفه جویی در منابع مالی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Content Placeholder 194565"/>
          <p:cNvGrpSpPr/>
          <p:nvPr/>
        </p:nvGrpSpPr>
        <p:grpSpPr>
          <a:xfrm>
            <a:off x="457200" y="762120"/>
            <a:ext cx="8228880" cy="4615560"/>
            <a:chOff x="457200" y="762120"/>
            <a:chExt cx="8228880" cy="4615560"/>
          </a:xfrm>
        </p:grpSpPr>
        <p:cxnSp>
          <p:nvCxnSpPr>
            <p:cNvPr id="490" name="_s1028"/>
            <p:cNvCxnSpPr>
              <a:stCxn id="491" idx="0"/>
              <a:endCxn id="492" idx="2"/>
            </p:cNvCxnSpPr>
            <p:nvPr/>
          </p:nvCxnSpPr>
          <p:spPr>
            <a:xfrm flipV="1" rot="16200000">
              <a:off x="4240440" y="3481200"/>
              <a:ext cx="420120" cy="169452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3" name="_s1029"/>
            <p:cNvCxnSpPr>
              <a:stCxn id="494" idx="0"/>
              <a:endCxn id="492" idx="2"/>
            </p:cNvCxnSpPr>
            <p:nvPr/>
          </p:nvCxnSpPr>
          <p:spPr>
            <a:xfrm flipH="1" flipV="1" rot="5400000">
              <a:off x="2546280" y="3480840"/>
              <a:ext cx="420120" cy="169524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5" name="_s1030"/>
            <p:cNvCxnSpPr>
              <a:stCxn id="492" idx="3"/>
              <a:endCxn id="496" idx="2"/>
            </p:cNvCxnSpPr>
            <p:nvPr/>
          </p:nvCxnSpPr>
          <p:spPr>
            <a:xfrm flipV="1">
              <a:off x="5055840" y="1600920"/>
              <a:ext cx="2178360" cy="209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7" name="_s1031"/>
            <p:cNvCxnSpPr>
              <a:stCxn id="498" idx="3"/>
              <a:endCxn id="496" idx="2"/>
            </p:cNvCxnSpPr>
            <p:nvPr/>
          </p:nvCxnSpPr>
          <p:spPr>
            <a:xfrm flipV="1">
              <a:off x="5055840" y="1600560"/>
              <a:ext cx="2178360" cy="83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6" name="_s1032"/>
            <p:cNvSpPr/>
            <p:nvPr/>
          </p:nvSpPr>
          <p:spPr>
            <a:xfrm>
              <a:off x="5781960" y="7621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ffff"/>
                  </a:solidFill>
                  <a:latin typeface="Arial"/>
                </a:rPr>
                <a:t>روشهای نمونه گیر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_s1033"/>
            <p:cNvSpPr/>
            <p:nvPr/>
          </p:nvSpPr>
          <p:spPr>
            <a:xfrm>
              <a:off x="2151720" y="202068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_s1034"/>
            <p:cNvSpPr/>
            <p:nvPr/>
          </p:nvSpPr>
          <p:spPr>
            <a:xfrm>
              <a:off x="2151720" y="327960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غیر تصادق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_s1035"/>
            <p:cNvSpPr/>
            <p:nvPr/>
          </p:nvSpPr>
          <p:spPr>
            <a:xfrm>
              <a:off x="45720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اوطلبان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_s1036"/>
            <p:cNvSpPr/>
            <p:nvPr/>
          </p:nvSpPr>
          <p:spPr>
            <a:xfrm>
              <a:off x="384552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ر دستر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Content Placeholder 197637"/>
          <p:cNvGrpSpPr/>
          <p:nvPr/>
        </p:nvGrpSpPr>
        <p:grpSpPr>
          <a:xfrm>
            <a:off x="457200" y="258840"/>
            <a:ext cx="8228160" cy="5806440"/>
            <a:chOff x="457200" y="258840"/>
            <a:chExt cx="8228160" cy="5806440"/>
          </a:xfrm>
        </p:grpSpPr>
        <p:cxnSp>
          <p:nvCxnSpPr>
            <p:cNvPr id="500" name="_s2052"/>
            <p:cNvCxnSpPr>
              <a:stCxn id="501" idx="3"/>
              <a:endCxn id="502" idx="2"/>
            </p:cNvCxnSpPr>
            <p:nvPr/>
          </p:nvCxnSpPr>
          <p:spPr>
            <a:xfrm flipV="1">
              <a:off x="5393880" y="1087560"/>
              <a:ext cx="823320" cy="456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3" name="_s2053"/>
            <p:cNvCxnSpPr>
              <a:stCxn id="504" idx="3"/>
              <a:endCxn id="502" idx="2"/>
            </p:cNvCxnSpPr>
            <p:nvPr/>
          </p:nvCxnSpPr>
          <p:spPr>
            <a:xfrm flipV="1">
              <a:off x="5393880" y="1087560"/>
              <a:ext cx="823320" cy="331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5" name="_s2054"/>
            <p:cNvCxnSpPr>
              <a:stCxn id="506" idx="3"/>
              <a:endCxn id="502" idx="2"/>
            </p:cNvCxnSpPr>
            <p:nvPr/>
          </p:nvCxnSpPr>
          <p:spPr>
            <a:xfrm flipV="1">
              <a:off x="5393880" y="1087920"/>
              <a:ext cx="823320" cy="207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7" name="_s2055"/>
            <p:cNvCxnSpPr>
              <a:stCxn id="508" idx="3"/>
              <a:endCxn id="502" idx="2"/>
            </p:cNvCxnSpPr>
            <p:nvPr/>
          </p:nvCxnSpPr>
          <p:spPr>
            <a:xfrm flipV="1">
              <a:off x="5393880" y="1087920"/>
              <a:ext cx="823320" cy="83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_s2056"/>
            <p:cNvSpPr/>
            <p:nvPr/>
          </p:nvSpPr>
          <p:spPr>
            <a:xfrm>
              <a:off x="3748320" y="258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انواع نمونه گیری تصادف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_s2057"/>
            <p:cNvSpPr/>
            <p:nvPr/>
          </p:nvSpPr>
          <p:spPr>
            <a:xfrm>
              <a:off x="457200" y="150300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ساده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_s2058"/>
            <p:cNvSpPr/>
            <p:nvPr/>
          </p:nvSpPr>
          <p:spPr>
            <a:xfrm>
              <a:off x="457200" y="274716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منظ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_s2059"/>
            <p:cNvSpPr/>
            <p:nvPr/>
          </p:nvSpPr>
          <p:spPr>
            <a:xfrm>
              <a:off x="457200" y="399168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طبقه ای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_s2060"/>
            <p:cNvSpPr/>
            <p:nvPr/>
          </p:nvSpPr>
          <p:spPr>
            <a:xfrm>
              <a:off x="457200" y="5235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خوشه ا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خطای نمونه گیری تابع اندازه حجم نمونه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3e3ff"/>
                </a:solidFill>
                <a:latin typeface="Arial"/>
                <a:cs typeface="B Zar"/>
              </a:rPr>
              <a:t>در شرایط زیر بایستی نمونه را بزرگ انتخاب کرد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وجود متغیرهای کنترل نشده زیاد در تحقی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پیش بینی تفاوت یا همبستگی پایی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تقسیم گروه نمونه به زیرگروههای فرع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نامتجانس بود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عدم وجودوسیله پایا برای اندازه گیری متغیروابست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20:18:51Z</dcterms:created>
  <dc:creator>Your User Name</dc:creator>
  <dc:description/>
  <dc:language>en-US</dc:language>
  <cp:lastModifiedBy>Aramesh</cp:lastModifiedBy>
  <dcterms:modified xsi:type="dcterms:W3CDTF">2020-04-18T10:53:59Z</dcterms:modified>
  <cp:revision>3</cp:revision>
  <dc:subject/>
  <dc:title>نام درس مقدمات روش تحقیق درعلوم تربیتی  تعداد واحد درسی 3واحد  نام منبع  روش تحقیق درروان شناسی وعلوم تربیتی  مولف دکترعلی دلاور  تهیه کننده اسلاید عباس میربلوک بزرگی-عضو هیئت علمی مرکز تالش-منطقه یک</dc:title>
</cp:coreProperties>
</file>