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B0CC-C5B5-4414-9558-CCA8D3AD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8E94-9934-4212-BB78-7A7485F3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40511-B232-4A13-9235-BB89A847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E171D-E89A-42B7-81DC-7359AD62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21299-6169-4CD6-B073-7BBF797C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8A64B-5222-4203-8545-F97AA074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84BCE-424C-4DB0-B8B4-4B1E3FB2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FC6CB-594B-4042-9082-17B5BA23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CA03F-A09E-4D1A-A008-CCBD4345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CE98B-0190-4A21-BB97-140489D4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16EAF-8CA9-45B2-B19F-27DF2B3C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7F6FC-7BCB-4096-B81B-6CE463AB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C70A-E2C5-42E1-AF75-D1679199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44AA6-0916-4C48-A42D-18577391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E83E5-7EA1-4B83-80B2-65CA9EAC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A83C3-226F-4009-90BA-76A6A152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5751B-8875-460C-B4BE-F759BB0C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340B8-81C9-442E-8847-EDA46EC0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F492A-ADA8-4455-87B8-7A44668C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CE710-4AB1-4DB5-B5D2-3E2E7B71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EBBFB-206A-4214-AE6E-5F0CE92E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7EA51-01EE-474E-B71A-081AD51F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9B164-8DCA-45F7-8D7B-49D65CF5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7AD3-C78F-4084-B799-483B40F4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4765D-622D-46C3-9155-68CDCE41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F7CE-E53A-4144-84E4-F5A84019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5DEB-0F35-484F-B96F-8AB72E2D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648F-3E7E-44AB-AA14-E8DFFED9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833E-7EF7-46D6-B6A8-B03574AF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3B3A-7582-4389-991E-B79EAD6E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B079-2A32-4861-9FAD-8C4B075C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E3D9-E27E-4DE4-9635-E29F2205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AB84-023B-4C8B-A658-8601D889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1604-CA66-4241-8929-FA377E61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1172-7D4C-473A-9214-DBA661DD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52A3-89F5-4E10-8F0F-009FBA07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2FDA-3606-4580-A766-57CA94C3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CE24-9DB7-4173-9C0B-36541FEE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63D64-C14B-48C8-889F-4D5F05D9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98C2D-0DA2-4597-97E6-0DA6E6DC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6A08E-614C-42C7-9707-19CCE403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B3759-740E-4B6C-B2B8-11C84980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302F0-8319-4080-B1A4-8E364AE7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5CF1-8F3D-4DAD-A908-73610BCE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CA3E1-2047-4531-995B-EF81A93D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68ECB-E9E3-420C-99EB-612277AC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CBE4C-3A7A-4878-9334-44519ADE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ED67B-0E44-4206-AE72-EE104147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D164A-ED33-44D6-80A2-A85E6BB3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96186-9EA4-48BC-BFCD-A1A35DAF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543BC-4AF7-4E68-BAD5-34794B15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21557-2BC1-4C46-B5C0-A2F39788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08133-1453-4C42-8FE6-5816FE59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75778-7415-4CE4-9101-C7B45CDB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2BBE-72D6-4DB3-A88D-9AA419CF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B68C6-56A5-4276-9512-8B5C9C8B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53F6F-3291-4D54-946B-B6B0824A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896D5-8B0C-422D-A16D-9236A3BD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B031F-7329-47B9-BEB4-BD8D54A6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0CF40-3F5B-48F1-AA3A-EBF42197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D40FB-E200-473E-A350-86804744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E1F4E-F304-419E-8C5A-AD2271F0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1B589-BC3D-423D-9E93-A75E37CF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48C4A-B922-4C95-9080-AFA8D2F6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9ED2C-C1CC-4095-84AA-F2BB43BD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9EB9-2FFD-4BF2-AC15-608B6DFC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374C0-931D-45E9-87AD-F24A33E1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E8DA7-957D-41C9-B51E-2FD5FC58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F61D0-D84D-45D0-ACEA-95A82B97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33C31-FCBE-4F6A-905F-A389A515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C3F1D-2B51-453A-A537-54C8D7B3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42851-2802-43F4-82AC-11FF1085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D0882-39DF-4F15-BFC4-031E11AB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E2BBA-F542-4195-A0BB-64014903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04B8A-C909-4BD5-A42B-379E8E09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C8296-767F-44F5-A624-C5F78FAC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7122-0D58-4968-9651-128ABC99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67F3A-C3B5-4748-BDA4-ACD519F0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922162-6B88-4060-851C-063C6065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A8FB05-9A21-4261-878F-B4D8E8E5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629084-C497-4A62-BA7F-96D5CEE0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5F7FFB-A998-4FB6-98A0-7F3BE0C2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940A3E-1A95-4063-8B5D-B643C593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12282B-E41F-49C6-8E50-2D9F4DDC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2C19A9-3763-47EC-A026-C5F97151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D030FC-FB80-4AB9-8FD9-4FEB73E9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BA9B5B-3EC2-40BD-8460-45D5CD98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05D-DFDC-4282-A3E6-79D83B9E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A20BD2-599D-43C6-B810-5F871AF8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2B6F5F-8FC2-485B-9EE2-EEEBD560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1650C5-82E1-43EF-94FB-6A159B53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A1D5C-8C7A-4938-9B90-F75344BD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7D728-6E7F-4F8B-88E0-4F4BA452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DF5C3-693F-4C13-8D1E-6E1C1B3E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D4954-A14E-4442-8150-C3D5F496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C20DF-7C57-483B-BDA3-3E868413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3BD01-9B19-474D-8CE4-FC5433D1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4F1E5-0A62-429B-A8D0-688F03FC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DB4-954B-4B3D-8779-73DAA55C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00B8C-9111-4CE5-84CA-6ECC6B64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D75C0-A81E-4790-8E2A-7A6216B9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75AE7-18C8-4152-A4A9-F16D7C2F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6C1EA-CEC4-47A4-880C-215F091E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929F5-6698-4F6B-BBC8-43E50643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48C25-4465-47FA-9D86-D137D8A9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AD105-0977-4605-954C-8628EA07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5277B-4CB5-4C3B-8A28-B5308F57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674A1-CD3F-4C41-9BEB-58A77E65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2494E-32EF-42E2-8B4D-83FADB93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CE23-ACC1-43D7-A7D4-EC10CAF6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48B88-5420-44E3-AD27-F06C2108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0EE63-022A-4DE4-AD74-88D508D0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C9DA5-219E-4605-A501-40B8BB6D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A485A-67C2-4198-BD32-771C0B9A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9A35A-E89D-46AE-8E03-31D079BE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7F3CE-0215-498F-8636-87A69331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F5C68-D44C-4CDF-9E13-ECD89005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59F8F-B2EC-4C61-B70F-026B7361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6279E-3521-4538-8F80-ED5BFC53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8C90D-130A-49E6-B24B-4F611D06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FE7B-DB48-46CC-8248-254759DA11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12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13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14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15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16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17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</p:grpSp>
      <p:sp>
        <p:nvSpPr>
          <p:cNvPr id="81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2F04-12FB-4615-A9D4-014736505D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F4DA-8499-4BF3-90F3-9E318DE1E0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5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6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5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6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7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8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</p:grpSp>
        <p:grpSp>
          <p:nvGrpSpPr>
            <p:cNvPr id="99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0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01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02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03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04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05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06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07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08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09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0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1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2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3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4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5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6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7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8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9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0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1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2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3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4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5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6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7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8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9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0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1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2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3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4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5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6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7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8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9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0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1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2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3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4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5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6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7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8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9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0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1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2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3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4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5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6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7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8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9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0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1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2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3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4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5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6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7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8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9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0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1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2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3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4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5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6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7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8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9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0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1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2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3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4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5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6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7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8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9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0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1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2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3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4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5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6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7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8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9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0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1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2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3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4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5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6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7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8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9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0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1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2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3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4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5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6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7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8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9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0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1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2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3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4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5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6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7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8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9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30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31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32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33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34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</p:grp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996B-85B8-4F1F-96BB-7F8A1E70A9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7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grpSp>
          <p:nvGrpSpPr>
            <p:cNvPr id="27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7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0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0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0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0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grpSp>
            <p:nvGrpSpPr>
              <p:cNvPr id="30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0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0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0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0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0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2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2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2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2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2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2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2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2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3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3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3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3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3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3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3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3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3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4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</p:grp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A2BC-60E1-436E-9027-98EC89756242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8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8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8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8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8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5E6F-6C2F-4B22-B4C1-EE256C86F4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9B8C-2F45-4D13-B4CB-DD1EF54534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897A-2BC2-48CF-BB8E-D08A2E3B2D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1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1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1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1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1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1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</p:grpSp>
        <p:grpSp>
          <p:nvGrpSpPr>
            <p:cNvPr id="52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2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5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6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6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6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6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6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</p:grp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D42F-E063-4FE6-BC7C-441E2A83C8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06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grpSp>
          <p:nvGrpSpPr>
            <p:cNvPr id="707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08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09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0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1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2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3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4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5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6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7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8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9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0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1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2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3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4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5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6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7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8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9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30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31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32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grpSp>
            <p:nvGrpSpPr>
              <p:cNvPr id="733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34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35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36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37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38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39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40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41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42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43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44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45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46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47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48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49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50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51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52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53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54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55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56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57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58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59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60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61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2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63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64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65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66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67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68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69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</p:grpSp>
      </p:grp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25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26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1F0F-E7AB-40EB-B381-C7BE305F939D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2193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a-IR" sz="8000" spc="-1" strike="noStrike">
                <a:solidFill>
                  <a:srgbClr val="ff0000"/>
                </a:solidFill>
                <a:latin typeface="IPT.Yagut"/>
                <a:cs typeface="IPT.Yagut"/>
              </a:rPr>
              <a:t>بسم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ea typeface="IPT.Yagut"/>
              </a:rPr>
              <a:t>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cs typeface="IPT.Yagut"/>
              </a:rPr>
              <a:t>الله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ea typeface="IPT.Yagut"/>
              </a:rPr>
              <a:t>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cs typeface="IPT.Yagut"/>
              </a:rPr>
              <a:t>الرحمن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ea typeface="IPT.Yagut"/>
              </a:rPr>
              <a:t>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cs typeface="IPT.Yagut"/>
              </a:rPr>
              <a:t>الرحیم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Rectangle 4"/>
          <p:cNvSpPr/>
          <p:nvPr/>
        </p:nvSpPr>
        <p:spPr>
          <a:xfrm>
            <a:off x="0" y="46483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99ff"/>
                </a:solidFill>
                <a:latin typeface="Tahoma"/>
              </a:rPr>
              <a:t>روشها: تعیین چگونگی انجام هر یک از مراحل رویه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95" name="Rectangle 5"/>
          <p:cNvSpPr/>
          <p:nvPr/>
        </p:nvSpPr>
        <p:spPr>
          <a:xfrm>
            <a:off x="0" y="320040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رویه ها: تعیین مراحل یا گام های متوالی پیوسته برای انجام یک وظیفه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Rectangle 4"/>
          <p:cNvSpPr/>
          <p:nvPr/>
        </p:nvSpPr>
        <p:spPr>
          <a:xfrm>
            <a:off x="0" y="46483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9933"/>
                </a:solidFill>
                <a:latin typeface="Tahoma"/>
              </a:rPr>
              <a:t>خط مشی ها: 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رهنمودهای کلی مبهمی هستند که در چهارچوب آنها مدیران می توانند از قضاوت شخصی نیز استفاده کن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99" name="Rectangle 5"/>
          <p:cNvSpPr/>
          <p:nvPr/>
        </p:nvSpPr>
        <p:spPr>
          <a:xfrm>
            <a:off x="0" y="320040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1" lang="fa-IR" sz="3200" spc="-1" strike="noStrike">
                <a:solidFill>
                  <a:srgbClr val="3399ff"/>
                </a:solidFill>
                <a:latin typeface="Tahoma"/>
              </a:rPr>
              <a:t>مقررات: 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احکام صریحی که بیان می کنند شخص چه باید بکند یا نباید بک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Rectangle 4"/>
          <p:cNvSpPr/>
          <p:nvPr/>
        </p:nvSpPr>
        <p:spPr>
          <a:xfrm>
            <a:off x="0" y="32004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با توجه به قابلیت پیش بینی نتایج ، شرایط به سه دسته قابل تقسیم است: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الف: اطمینان قطع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ب: ریسک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ج: عدم اطمینان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03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Tahoma"/>
              </a:rPr>
              <a:t>« شرایط تصمیم گیری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6" name="Rectangle 4"/>
          <p:cNvSpPr/>
          <p:nvPr/>
        </p:nvSpPr>
        <p:spPr>
          <a:xfrm>
            <a:off x="0" y="380988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9933"/>
                </a:solidFill>
                <a:latin typeface="Tahoma"/>
              </a:rPr>
              <a:t>- برنامه ریزی عبارت است از فراگرد تعیین اهداف سازمان و تدارک دقیق و پیشاپیش اقدامات و وسایلی که تحقق اهداف را میسر می ساز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07" name="Rectangle 5"/>
          <p:cNvSpPr/>
          <p:nvPr/>
        </p:nvSpPr>
        <p:spPr>
          <a:xfrm>
            <a:off x="0" y="2590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« تعیین اهداف و برنامه ریزی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4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0" name="Rectangle 4"/>
          <p:cNvSpPr/>
          <p:nvPr/>
        </p:nvSpPr>
        <p:spPr>
          <a:xfrm>
            <a:off x="0" y="365760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- هدف گذار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- پیش نگر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3</a:t>
            </a: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- بودجه بند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4</a:t>
            </a: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- تعیین خط مشی  و روشها و ملاک های عملیات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0" y="2590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« فراگرد برنامه ریزی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3" dur="20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4" name="Rectangle 4"/>
          <p:cNvSpPr/>
          <p:nvPr/>
        </p:nvSpPr>
        <p:spPr>
          <a:xfrm>
            <a:off x="6799680" y="4876920"/>
            <a:ext cx="22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9933"/>
                </a:solidFill>
                <a:latin typeface="Tahoma"/>
              </a:rPr>
              <a:t>انواع هدف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15" name="Rectangle 5"/>
          <p:cNvSpPr/>
          <p:nvPr/>
        </p:nvSpPr>
        <p:spPr>
          <a:xfrm>
            <a:off x="3276720" y="4343400"/>
            <a:ext cx="236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99"/>
                </a:solidFill>
                <a:latin typeface="Tahoma"/>
              </a:rPr>
              <a:t>گروهی و سازمانی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16" name="Rectangle 6"/>
          <p:cNvSpPr/>
          <p:nvPr/>
        </p:nvSpPr>
        <p:spPr>
          <a:xfrm>
            <a:off x="3886200" y="5410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99"/>
                </a:solidFill>
                <a:latin typeface="Tahoma"/>
              </a:rPr>
              <a:t>لفظی و واقعی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17" name="Line 7"/>
          <p:cNvSpPr/>
          <p:nvPr/>
        </p:nvSpPr>
        <p:spPr>
          <a:xfrm>
            <a:off x="5791320" y="4648320"/>
            <a:ext cx="1295280" cy="5331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18" name="Line 8"/>
          <p:cNvSpPr/>
          <p:nvPr/>
        </p:nvSpPr>
        <p:spPr>
          <a:xfrm flipV="1">
            <a:off x="5791320" y="5181480"/>
            <a:ext cx="1295280" cy="457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19" name="Rectangle 9"/>
          <p:cNvSpPr/>
          <p:nvPr/>
        </p:nvSpPr>
        <p:spPr>
          <a:xfrm>
            <a:off x="304920" y="2286000"/>
            <a:ext cx="8839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« اهداف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20" name="Rectangle 10"/>
          <p:cNvSpPr/>
          <p:nvPr/>
        </p:nvSpPr>
        <p:spPr>
          <a:xfrm>
            <a:off x="0" y="3124080"/>
            <a:ext cx="8839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6600"/>
                </a:solidFill>
                <a:latin typeface="Arial"/>
              </a:rPr>
              <a:t>مدیریت وسیله ای است برای نیل به هدف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8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65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150"/>
                            </p:stCondLst>
                            <p:childTnLst>
                              <p:par>
                                <p:cTn id="3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4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7150"/>
                            </p:stCondLst>
                            <p:childTnLst>
                              <p:par>
                                <p:cTn id="3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7650"/>
                            </p:stCondLst>
                            <p:childTnLst>
                              <p:par>
                                <p:cTn id="3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3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965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3" name="Rectangle 4"/>
          <p:cNvSpPr/>
          <p:nvPr/>
        </p:nvSpPr>
        <p:spPr>
          <a:xfrm>
            <a:off x="0" y="365760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- اهداف باید سنجش پذیر باش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- هدف ها باید تحقق پذیر باش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- اهداف باید پذیرفتنی باش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24" name="Rectangle 5"/>
          <p:cNvSpPr/>
          <p:nvPr/>
        </p:nvSpPr>
        <p:spPr>
          <a:xfrm>
            <a:off x="0" y="2590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3600" spc="-1" strike="noStrike">
                <a:solidFill>
                  <a:srgbClr val="ff9933"/>
                </a:solidFill>
                <a:latin typeface="Arial"/>
              </a:rPr>
              <a:t>ملاک های عمده تعیین اهداف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50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50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7" name="Rectangle 4"/>
          <p:cNvSpPr/>
          <p:nvPr/>
        </p:nvSpPr>
        <p:spPr>
          <a:xfrm>
            <a:off x="0" y="281952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- اهداف باید با هم همخوانی و توافق داشته باش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- در تعیین اهداف باید به « </a:t>
            </a:r>
            <a:r>
              <a:rPr b="1" lang="fa-IR" sz="3200" spc="-1" strike="noStrike">
                <a:solidFill>
                  <a:srgbClr val="eaeaea"/>
                </a:solidFill>
                <a:latin typeface="Tahoma"/>
              </a:rPr>
              <a:t>هزینه فرصت از دست رفته </a:t>
            </a: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» یا عدم النفع توجه داشت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0" name="Rectangle 4"/>
          <p:cNvSpPr/>
          <p:nvPr/>
        </p:nvSpPr>
        <p:spPr>
          <a:xfrm>
            <a:off x="0" y="365760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ecff"/>
                </a:solidFill>
                <a:latin typeface="Tahoma"/>
              </a:rPr>
              <a:t>پیش نگری عبارت است از فراگرد استفاده از اطلاعات گذشته و حال برای تخمین شرایط و رویدادهای آینده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1" name="Rectangle 5"/>
          <p:cNvSpPr/>
          <p:nvPr/>
        </p:nvSpPr>
        <p:spPr>
          <a:xfrm>
            <a:off x="0" y="2590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« پیش نگری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4" name="Rectangle 4"/>
          <p:cNvSpPr/>
          <p:nvPr/>
        </p:nvSpPr>
        <p:spPr>
          <a:xfrm>
            <a:off x="5258880" y="3657600"/>
            <a:ext cx="39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cc66"/>
                </a:solidFill>
                <a:latin typeface="Tahoma"/>
              </a:rPr>
              <a:t>روشهای پیش نگر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5" name="Rectangle 5"/>
          <p:cNvSpPr/>
          <p:nvPr/>
        </p:nvSpPr>
        <p:spPr>
          <a:xfrm>
            <a:off x="2057400" y="312408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66ff99"/>
                </a:solidFill>
                <a:latin typeface="Tahoma"/>
              </a:rPr>
              <a:t>ساده - تخصصی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6" name="Rectangle 6"/>
          <p:cNvSpPr/>
          <p:nvPr/>
        </p:nvSpPr>
        <p:spPr>
          <a:xfrm>
            <a:off x="1905120" y="411480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66ff99"/>
                </a:solidFill>
                <a:latin typeface="Tahoma"/>
              </a:rPr>
              <a:t>ساده ترین روش حدس و گمان است.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7" name="Line 7"/>
          <p:cNvSpPr/>
          <p:nvPr/>
        </p:nvSpPr>
        <p:spPr>
          <a:xfrm>
            <a:off x="4495680" y="3429000"/>
            <a:ext cx="1295640" cy="5335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8" name="Line 8"/>
          <p:cNvSpPr/>
          <p:nvPr/>
        </p:nvSpPr>
        <p:spPr>
          <a:xfrm flipV="1">
            <a:off x="4495680" y="3962520"/>
            <a:ext cx="1295640" cy="457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9" name="Rectangle 9"/>
          <p:cNvSpPr/>
          <p:nvPr/>
        </p:nvSpPr>
        <p:spPr>
          <a:xfrm>
            <a:off x="304920" y="2209680"/>
            <a:ext cx="8839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« روشها و فنون پیش نگری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0" name="Rectangle 10"/>
          <p:cNvSpPr/>
          <p:nvPr/>
        </p:nvSpPr>
        <p:spPr>
          <a:xfrm>
            <a:off x="0" y="5410080"/>
            <a:ext cx="8839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6600"/>
                </a:solidFill>
                <a:latin typeface="Arial"/>
              </a:rPr>
              <a:t>پیچیده: </a:t>
            </a:r>
            <a:r>
              <a:rPr b="1" lang="fa-IR" sz="3200" spc="-1" strike="noStrike">
                <a:solidFill>
                  <a:srgbClr val="ff9933"/>
                </a:solidFill>
                <a:latin typeface="Arial"/>
              </a:rPr>
              <a:t>روشهای ریاضی </a:t>
            </a:r>
            <a:r>
              <a:rPr b="1" lang="ar-SA" sz="3200" spc="-1" strike="noStrike">
                <a:solidFill>
                  <a:srgbClr val="ff9933"/>
                </a:solidFill>
                <a:latin typeface="Arial"/>
              </a:rPr>
              <a:t>–</a:t>
            </a:r>
            <a:r>
              <a:rPr b="1" lang="fa-IR" sz="3200" spc="-1" strike="noStrike">
                <a:solidFill>
                  <a:srgbClr val="ff9933"/>
                </a:solidFill>
                <a:latin typeface="Arial"/>
              </a:rPr>
              <a:t> مدل های اقتصاد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4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800"/>
                            </p:stCondLst>
                            <p:childTnLst>
                              <p:par>
                                <p:cTn id="4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300"/>
                            </p:stCondLst>
                            <p:childTnLst>
                              <p:par>
                                <p:cTn id="4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9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6300"/>
                            </p:stCondLst>
                            <p:childTnLst>
                              <p:par>
                                <p:cTn id="4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6800"/>
                            </p:stCondLst>
                            <p:childTnLst>
                              <p:par>
                                <p:cTn id="4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8800"/>
                            </p:stCondLst>
                            <p:childTnLst>
                              <p:par>
                                <p:cTn id="4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93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943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نام درس: مدیریت آمزشگاهی</a:t>
            </a:r>
            <a:br>
              <a:rPr sz="4800"/>
            </a:br>
            <a:br>
              <a:rPr sz="4800"/>
            </a:b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نام کتاب:مقدمات مدیریت آموزشی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Verdana"/>
              </a:rPr>
              <a:t>         </a:t>
            </a:r>
            <a:br>
              <a:rPr sz="4800"/>
            </a:b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نام مؤلف:دکتر علی علاقه بند</a:t>
            </a:r>
            <a:br>
              <a:rPr sz="4800"/>
            </a:br>
            <a:br>
              <a:rPr sz="4800"/>
            </a:b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مدرس: یگانه</a:t>
            </a:r>
            <a:br>
              <a:rPr sz="4800"/>
            </a:b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تعداد واحد: </a:t>
            </a: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3" name="Rectangle 4"/>
          <p:cNvSpPr/>
          <p:nvPr/>
        </p:nvSpPr>
        <p:spPr>
          <a:xfrm>
            <a:off x="0" y="365760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 بودجه بندی مترادف برنامه ریزی نیست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بودجه بندی یعنی تعیین اینکه چه مقدار از کل منابع سازمان به اهداف خاص اختصاص یافته است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4" name="Rectangle 5"/>
          <p:cNvSpPr/>
          <p:nvPr/>
        </p:nvSpPr>
        <p:spPr>
          <a:xfrm>
            <a:off x="0" y="2590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« بودجه بندی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0" fill="hold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0" fill="hold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866920" y="1598760"/>
            <a:ext cx="281484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7" name="AutoShape 4"/>
          <p:cNvSpPr/>
          <p:nvPr/>
        </p:nvSpPr>
        <p:spPr>
          <a:xfrm>
            <a:off x="6019920" y="4114800"/>
            <a:ext cx="1904760" cy="990720"/>
          </a:xfrm>
          <a:prstGeom prst="flowChartPreparation">
            <a:avLst/>
          </a:prstGeom>
          <a:solidFill>
            <a:srgbClr val="eaeaea"/>
          </a:solid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6600"/>
                </a:solidFill>
                <a:latin typeface="Tahoma"/>
              </a:rPr>
              <a:t>موقت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8" name="AutoShape 5"/>
          <p:cNvSpPr/>
          <p:nvPr/>
        </p:nvSpPr>
        <p:spPr>
          <a:xfrm>
            <a:off x="3581280" y="2666880"/>
            <a:ext cx="1905120" cy="838440"/>
          </a:xfrm>
          <a:prstGeom prst="flowChartPreparation">
            <a:avLst/>
          </a:prstGeom>
          <a:solidFill>
            <a:srgbClr val="eaeaea"/>
          </a:solid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6600"/>
                </a:solidFill>
                <a:latin typeface="Tahoma"/>
              </a:rPr>
              <a:t>کوتاه مدت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9" name="AutoShape 6"/>
          <p:cNvSpPr/>
          <p:nvPr/>
        </p:nvSpPr>
        <p:spPr>
          <a:xfrm>
            <a:off x="6019920" y="2666880"/>
            <a:ext cx="1904760" cy="914400"/>
          </a:xfrm>
          <a:prstGeom prst="flowChartPreparation">
            <a:avLst/>
          </a:prstGeom>
          <a:solidFill>
            <a:srgbClr val="eaeaea"/>
          </a:solid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6600"/>
                </a:solidFill>
                <a:latin typeface="Tahoma"/>
              </a:rPr>
              <a:t>ثابت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50" name="AutoShape 7"/>
          <p:cNvSpPr/>
          <p:nvPr/>
        </p:nvSpPr>
        <p:spPr>
          <a:xfrm>
            <a:off x="990720" y="2590920"/>
            <a:ext cx="1904760" cy="914400"/>
          </a:xfrm>
          <a:prstGeom prst="flowChartPreparation">
            <a:avLst/>
          </a:prstGeom>
          <a:solidFill>
            <a:srgbClr val="eaeaea"/>
          </a:solid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6600"/>
                </a:solidFill>
                <a:latin typeface="Tahoma"/>
              </a:rPr>
              <a:t>راهبردی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51" name="AutoShape 10"/>
          <p:cNvSpPr/>
          <p:nvPr/>
        </p:nvSpPr>
        <p:spPr>
          <a:xfrm>
            <a:off x="3581280" y="4114800"/>
            <a:ext cx="1905120" cy="914400"/>
          </a:xfrm>
          <a:prstGeom prst="flowChartPreparation">
            <a:avLst/>
          </a:prstGeom>
          <a:solidFill>
            <a:srgbClr val="eaeaea"/>
          </a:solid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6600"/>
                </a:solidFill>
                <a:latin typeface="Tahoma"/>
              </a:rPr>
              <a:t>میان مدت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52" name="AutoShape 11"/>
          <p:cNvSpPr/>
          <p:nvPr/>
        </p:nvSpPr>
        <p:spPr>
          <a:xfrm>
            <a:off x="990720" y="4114800"/>
            <a:ext cx="1904760" cy="914400"/>
          </a:xfrm>
          <a:prstGeom prst="flowChartPreparation">
            <a:avLst/>
          </a:prstGeom>
          <a:solidFill>
            <a:srgbClr val="eaeaea"/>
          </a:solid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6600"/>
                </a:solidFill>
                <a:latin typeface="Tahoma"/>
              </a:rPr>
              <a:t>عملیاتی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53" name="AutoShape 12"/>
          <p:cNvSpPr/>
          <p:nvPr/>
        </p:nvSpPr>
        <p:spPr>
          <a:xfrm>
            <a:off x="3581280" y="5486400"/>
            <a:ext cx="1905120" cy="914400"/>
          </a:xfrm>
          <a:prstGeom prst="flowChartPreparation">
            <a:avLst/>
          </a:prstGeom>
          <a:solidFill>
            <a:srgbClr val="eaeaea"/>
          </a:solid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6600"/>
                </a:solidFill>
                <a:latin typeface="Tahoma"/>
              </a:rPr>
              <a:t>دراز مدت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54" name="Rectangle 13"/>
          <p:cNvSpPr/>
          <p:nvPr/>
        </p:nvSpPr>
        <p:spPr>
          <a:xfrm>
            <a:off x="2438280" y="1828800"/>
            <a:ext cx="342432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cc99"/>
                </a:solidFill>
                <a:latin typeface="Arial"/>
              </a:rPr>
              <a:t>«انواع برنامه ها» 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cover dir="r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10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700"/>
                            </p:stCondLst>
                            <p:childTnLst>
                              <p:par>
                                <p:cTn id="5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7600"/>
                            </p:stCondLst>
                            <p:childTnLst>
                              <p:par>
                                <p:cTn id="5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8900"/>
                            </p:stCondLst>
                            <p:childTnLst>
                              <p:par>
                                <p:cTn id="5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2100"/>
                            </p:stCondLst>
                            <p:childTnLst>
                              <p:par>
                                <p:cTn id="5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7" name="Rectangle 4"/>
          <p:cNvSpPr/>
          <p:nvPr/>
        </p:nvSpPr>
        <p:spPr>
          <a:xfrm>
            <a:off x="0" y="36576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99ff"/>
                </a:solidFill>
                <a:latin typeface="Tahoma"/>
              </a:rPr>
              <a:t>- برنامه ریزی مؤثر ، کنترل را امکان پذیر می ک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99ff"/>
                </a:solidFill>
                <a:latin typeface="Tahoma"/>
              </a:rPr>
              <a:t>- برنامه ها را هدایت و رهبری می کند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99ff"/>
                </a:solidFill>
                <a:latin typeface="Tahoma"/>
              </a:rPr>
              <a:t>- میزان بلاتکلیفی را کاهش می ده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« اهمیت برنامه ریزی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Picture 5" descr="SuperStock_143-322B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960" name="WordArt 6"/>
          <p:cNvSpPr txBox="1"/>
          <p:nvPr/>
        </p:nvSpPr>
        <p:spPr>
          <a:xfrm>
            <a:off x="3505320" y="1828800"/>
            <a:ext cx="22096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پایان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3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00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3" name="Rectangle 4"/>
          <p:cNvSpPr/>
          <p:nvPr/>
        </p:nvSpPr>
        <p:spPr>
          <a:xfrm>
            <a:off x="3186360" y="4876920"/>
            <a:ext cx="65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دو مفهوم اساسی در این تعریف: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64" name="Rectangle 5"/>
          <p:cNvSpPr/>
          <p:nvPr/>
        </p:nvSpPr>
        <p:spPr>
          <a:xfrm>
            <a:off x="609480" y="41911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b7b6a3"/>
                </a:solidFill>
                <a:latin typeface="Tahoma"/>
              </a:rPr>
              <a:t> </a:t>
            </a:r>
            <a:r>
              <a:rPr b="1" lang="fa-IR" sz="2800" spc="-1" strike="noStrike">
                <a:solidFill>
                  <a:srgbClr val="ccffff"/>
                </a:solidFill>
                <a:latin typeface="Tahoma"/>
              </a:rPr>
              <a:t>گزینش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65" name="Rectangle 6"/>
          <p:cNvSpPr/>
          <p:nvPr/>
        </p:nvSpPr>
        <p:spPr>
          <a:xfrm>
            <a:off x="1219320" y="5410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ffff"/>
                </a:solidFill>
                <a:latin typeface="Tahoma"/>
              </a:rPr>
              <a:t>حل مسأله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66" name="Line 7"/>
          <p:cNvSpPr/>
          <p:nvPr/>
        </p:nvSpPr>
        <p:spPr>
          <a:xfrm>
            <a:off x="2895480" y="4724280"/>
            <a:ext cx="1295640" cy="5335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67" name="Line 8"/>
          <p:cNvSpPr/>
          <p:nvPr/>
        </p:nvSpPr>
        <p:spPr>
          <a:xfrm flipV="1">
            <a:off x="2895480" y="5257800"/>
            <a:ext cx="1295640" cy="457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68" name="Rectangle 9"/>
          <p:cNvSpPr/>
          <p:nvPr/>
        </p:nvSpPr>
        <p:spPr>
          <a:xfrm>
            <a:off x="304920" y="2286000"/>
            <a:ext cx="8839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66ccff"/>
                </a:solidFill>
                <a:latin typeface="Tahoma"/>
              </a:rPr>
              <a:t>« تصمیم گیری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69" name="Rectangle 10"/>
          <p:cNvSpPr/>
          <p:nvPr/>
        </p:nvSpPr>
        <p:spPr>
          <a:xfrm>
            <a:off x="0" y="3124080"/>
            <a:ext cx="8839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c99"/>
                </a:solidFill>
                <a:latin typeface="Tahoma"/>
              </a:rPr>
              <a:t>تعریف تصمیم گیری: 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فراگردی که طی آن شیوه عمل خاصی برای حل مسأله یا مشکل ویژه برگزیده می شو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3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3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4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9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9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40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4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Rectangle 4"/>
          <p:cNvSpPr/>
          <p:nvPr/>
        </p:nvSpPr>
        <p:spPr>
          <a:xfrm>
            <a:off x="0" y="3200400"/>
            <a:ext cx="8686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تعریف و تشخیص مشکل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66ccff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66ccff"/>
                </a:solidFill>
                <a:latin typeface="Tahoma"/>
              </a:rPr>
              <a:t>- دست یابی به راه حل ها و یا شیوه های عمل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99ff"/>
                </a:solidFill>
                <a:latin typeface="Tahoma"/>
              </a:rPr>
              <a:t>3</a:t>
            </a:r>
            <a:r>
              <a:rPr b="1" lang="fa-IR" sz="3200" spc="-1" strike="noStrike">
                <a:solidFill>
                  <a:srgbClr val="3399ff"/>
                </a:solidFill>
                <a:latin typeface="Tahoma"/>
              </a:rPr>
              <a:t>- ارزشیابی و گزینش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66ff"/>
                </a:solidFill>
                <a:latin typeface="Tahoma"/>
              </a:rPr>
              <a:t>4</a:t>
            </a:r>
            <a:r>
              <a:rPr b="1" lang="fa-IR" sz="3200" spc="-1" strike="noStrike">
                <a:solidFill>
                  <a:srgbClr val="0066ff"/>
                </a:solidFill>
                <a:latin typeface="Tahoma"/>
              </a:rPr>
              <a:t>-اجرای تصمیم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73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r>
              <a:rPr b="1" lang="fa-IR" sz="3600" spc="-1" strike="noStrike">
                <a:solidFill>
                  <a:srgbClr val="ffcc99"/>
                </a:solidFill>
                <a:latin typeface="Tahoma"/>
              </a:rPr>
              <a:t>« مراحل تصمیم گیری »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8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8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0" y="266688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تصمیم گیری فراگردی منطقی و عقلائی است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اما همین فرآیند هرچه قدر هم منطقی صورت پذیرد ، باز هم خالی و اشتباه و خطا نیست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Rectangle 4"/>
          <p:cNvSpPr/>
          <p:nvPr/>
        </p:nvSpPr>
        <p:spPr>
          <a:xfrm>
            <a:off x="0" y="26668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c99"/>
                </a:solidFill>
                <a:latin typeface="Tahoma"/>
              </a:rPr>
              <a:t>مهمترین مشکل ، ناتوانی در کسب اطلاعات و استفاده از آن است. به همین دلیل مدیران با عقلانیت محدود عمل می کن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Rectangle 4"/>
          <p:cNvSpPr/>
          <p:nvPr/>
        </p:nvSpPr>
        <p:spPr>
          <a:xfrm>
            <a:off x="0" y="320040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تصمیمات سازمانی را می توان به دو دسته عمده تقسیم بندی کرد: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الف: تصمیمات معمول ( با برنامه )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ب: تصمیمات غیر معمول ( بی برنامه )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83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Tahoma"/>
              </a:rPr>
              <a:t>« انواع تصمیمات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Rectangle 4"/>
          <p:cNvSpPr/>
          <p:nvPr/>
        </p:nvSpPr>
        <p:spPr>
          <a:xfrm>
            <a:off x="0" y="335268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اهداف                         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استانداردها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3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رویه ها                       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4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روشها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5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مقررات                       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6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خط مشی ها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87" name="Rectangle 5"/>
          <p:cNvSpPr/>
          <p:nvPr/>
        </p:nvSpPr>
        <p:spPr>
          <a:xfrm>
            <a:off x="0" y="243828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r>
              <a:rPr b="1" lang="fa-IR" sz="3600" spc="-1" strike="noStrike">
                <a:solidFill>
                  <a:srgbClr val="ff6600"/>
                </a:solidFill>
                <a:latin typeface="Tahoma"/>
              </a:rPr>
              <a:t>رهنمودهای مهم در اتخاذ تصمیمات معمول سازمان: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Rectangle 4"/>
          <p:cNvSpPr/>
          <p:nvPr/>
        </p:nvSpPr>
        <p:spPr>
          <a:xfrm>
            <a:off x="0" y="44197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استانداردها: معیار یا ملاکی که بتوان چیزی را با آن مقایسه کرد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0" y="320040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1" lang="fa-IR" sz="3200" spc="-1" strike="noStrike">
                <a:solidFill>
                  <a:srgbClr val="ffcc99"/>
                </a:solidFill>
                <a:latin typeface="Tahoma"/>
              </a:rPr>
              <a:t>اهداف: نتایج مطلوبی که سازمان در جهت آنها هدایت می شود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4" dur="20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7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77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18:46:42Z</dcterms:created>
  <dc:creator>Amin</dc:creator>
  <dc:description/>
  <dc:language>en-US</dc:language>
  <cp:lastModifiedBy>Aramesh</cp:lastModifiedBy>
  <dcterms:modified xsi:type="dcterms:W3CDTF">2020-04-18T11:41:32Z</dcterms:modified>
  <cp:revision>357</cp:revision>
  <dc:subject/>
  <dc:title>بسم الله الرحمن الرحیم</dc:title>
</cp:coreProperties>
</file>