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B59-F2B4-424D-AE99-9F23FACD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1D1-4580-4BCC-8A72-E3D01DF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C2C08-3271-4A7C-8785-FD61D8E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D378-A2DB-4FFC-9F47-1D666D0A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342C-E6C0-4955-B23A-1803F8AA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6DD28-CB87-4F42-8D7B-30C108A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9B66-3414-4EBC-93C5-89DAFD1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DB04B-5692-44CC-A151-332D071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53177-5478-4A44-BC52-CE7AD4E3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25728-4A8A-44B5-BF49-256B11B0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4F6FC-C442-4699-AEC8-59318B13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4F544-E24E-4344-BB96-38D5D08A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472-D1F5-4447-B9A8-B988BE22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DD26C-110B-4FD5-AFF9-591F660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3F4E8-EFA6-43D3-9FF8-B3E4D4FC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A4E46-57FB-44DF-84E4-A550C45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A338-6454-4B94-98EF-6F58DAA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2378-9E85-439E-B5F3-6290911E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1F21B-664C-42AA-9F13-F2F97EE2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3369A-60C7-457D-9851-1CD387A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4BF77-1171-419C-AB06-8683742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6B8E6-CF88-4215-8D0D-D39DD641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E0B62-4A4F-48FD-8D08-FD46A034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F85-B1D5-41C2-ACA2-B60230EA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AF46D-2837-454F-B7E5-2581447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3774-1F0E-4E1A-87FC-D5625F09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95DF-9A09-46C1-9DFC-0A76A9CA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1726-4C9D-432A-B5EB-1F64BAB0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2115-1B42-45F0-8BEB-A95B8DF8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ADD8-62B0-477B-B414-712E16DE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8607-5A20-4098-AA79-23910551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D549-8453-418E-8798-98C45FA3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61F-7804-4B36-834F-981F2C6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0EC9-A955-4B8C-AE6E-E69D36B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7672-83F4-40B9-A53C-7C0C36D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39DD-E39C-4F8F-A5BE-222DAF9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10D5-54B9-4C62-9F1A-5336E307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2358-066C-4180-8619-2469714B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84672-406F-444D-82CA-BCAF41D2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1CBFF-8B5F-4F57-85BB-EAD266F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FB636-6758-4177-AAD9-E117A47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BD712-E316-41E4-B556-9467190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BC9A1-FD0F-465C-8083-D0D8844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BA4-2034-4A4C-A3FA-5CE52107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445D5-7722-4337-B814-09B5C92C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A7E1C-0CB6-45C6-A903-C813F33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8DE04-8E14-4F73-A3F5-B5C5BE1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06219-2C15-498D-82B0-B2BC412E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08E5B-F7BA-4B4F-976E-04735444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365FC-F8C5-44D7-982C-09E1F5E7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9EEC3-A310-43C8-BDCF-2F8E7A1C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8D884-6CF2-4352-ADFA-75C0497B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4940A-0312-4362-9C13-4EDAECF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AFC36-FFE4-4DBE-A0E0-FFABBC3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451-E04C-4976-B8CA-D4ECF6F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4FEFE-9EEB-42DC-9020-6DFD78C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F4C29-B461-48AA-96B1-8A2E75B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630DA-CAAA-474B-886B-CEF1A87B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97C2D-3D6F-4F94-9C28-8EEE61D1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8C899-3B99-4DB3-A90C-B5DECA9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886ED-8B92-4980-9E84-90B0453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06739-7215-43D2-B7EC-989EB616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5394B-99DD-41A6-A48E-110FF371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081EC-A777-4BDA-BD13-F76AAC53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B234-EE4A-4FF3-811D-024B0EAB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14B-DFCB-47A6-B6A7-D37915B2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065A-7211-4EAA-AFAF-4482766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9737-81F9-4A94-96C5-E3BD66E9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B74A-4C01-4927-8B7D-9FA6D73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BDD6-043F-4B80-BD5C-3583E2D5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D5CE-6FD2-47F0-92AC-ED50E83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AEC1-819E-4BDC-9C08-AC2EF57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DEF2-DD36-4222-BF46-35BBA08B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050A-4FAC-43F5-AF14-9FDA021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1B04-209E-4175-B48F-BDE4454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54F3-DB38-4BB0-856A-00097368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EB8-BA91-4DDE-9FA2-30DDCEAF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A350-50ED-4927-9293-D59F6B14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C2FF7-7EEB-4E96-B524-39E6E501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F3C1F-B446-458C-B414-958E1594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D9141-5981-4579-B766-07ACBBFD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344E3-5F42-4DBA-BC43-923AEAB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F7666-03F5-4A46-AFD1-6E17BFB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C7B28-289D-4053-8D07-AA816F8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B07B8-0167-4F7D-B019-ED6D186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336A0-C188-49B9-A33F-07DAD7C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0DC33-F95C-4347-8702-DAB19BA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79-1351-4AED-89A4-4EB3399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2F878-377B-4418-A27A-94F12175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AA69F-CE14-4313-B61F-01FEB121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96785-245E-4B7F-A45E-6CD52DB9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042C-913B-4CA3-B675-EC5D1BF7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D75A-FEF2-421F-B5F0-FD2C288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55C0D-FADC-4B8A-87D0-F8C8252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776D1-2CFD-477E-8BBB-C5F1F26E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93085-52E5-4FFA-A060-EE102B3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769D-9B74-493F-B815-F9A9C25E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A2BD-DE53-4811-B79B-BB9C669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676-885F-4705-BC10-3919E95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CB63-3543-4CC2-81A0-A2853A4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804D-2303-4D79-B828-37F0387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6A2E-072F-47E4-8C33-BCFA974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8F42D-E182-4694-A0F5-6714095B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EC7E-F9BE-424D-A970-4CA11880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D7F1F-0184-4476-BFD9-8EC50A72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6B203-3706-44EF-A163-D898DA1D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5FB94-C316-4A0F-B8B4-6D02574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094F-5ED5-4EF8-B196-EC9608F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0BAC9-01FD-4E12-9B83-FFD8C18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733-BCC2-4035-AE29-BC0E0E7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EFC3-8656-4504-8A2B-BB3A17C8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D60A3-E41B-42EC-BCA8-354F74A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80145-FAD2-4D71-BF05-E505331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CCD5-A620-4F60-871F-9346DE6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64B2-54ED-49A4-B514-0783BFAA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BE51B-3613-4B40-9EDB-5E936817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93DF-EE33-42D7-933D-8782E2A0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C7BCC-2525-456E-B7BF-2F9AF3FA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AED30-436D-458F-BF3C-7EBB7A5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7C4E0-82F9-4BC1-8BA4-5F852667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5F7-61CC-47E9-8EEF-8D4F325E8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3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B0C-B600-4751-9B43-D7F7B68E2F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7C28-FE1C-430A-960D-571CC8C8E9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CB7-E92B-42BF-AA8C-C435FA18B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5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1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2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5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7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8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9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0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2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3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4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5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6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7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9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0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1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2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3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4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5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6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7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8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9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0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1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2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3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4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5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6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7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8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9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0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1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2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3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4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5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6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7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2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3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4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5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6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7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8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9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0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1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2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3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4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5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6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7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8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9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0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1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2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3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4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5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6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7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8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9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0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1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2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3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4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5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6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7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8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9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0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1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2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3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4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5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6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7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8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9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0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1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2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3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4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5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6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7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8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9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0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1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2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3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4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5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6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7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8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9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0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1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2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3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4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5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6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7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8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9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0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1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2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3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4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5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6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7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8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9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0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1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2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3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4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5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6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7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8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9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0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1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2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3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4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5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6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7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8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9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0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1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2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3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4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5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6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7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8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9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0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1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2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3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4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5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6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7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8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9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0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1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2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3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4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5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6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7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8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9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276-BA3F-49D7-B90F-B2FD52616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9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59A-1771-4462-9B28-221A5A4CDE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FC9D-F181-4F64-9547-158835C79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CF49-A836-4F11-8BD7-A984270DC9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sp>
          <p:nvSpPr>
            <p:cNvPr id="52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0ADD-94B3-440D-AF3B-707970E5F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573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4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6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7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9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0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1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2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3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4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5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6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7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8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9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0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1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2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3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4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5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6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7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8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9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0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1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2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3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4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5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6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7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8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9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0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1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2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3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4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5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6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7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8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9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0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1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2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3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4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5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6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7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8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9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0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1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2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3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4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5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6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7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8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9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0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1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2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3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4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5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6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7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8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9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0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1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2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3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4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5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6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7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8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9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0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1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2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3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4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5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6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7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8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9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0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1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2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3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4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5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6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7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8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9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0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1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2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3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4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5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6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7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8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9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0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1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2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3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4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5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6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7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8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9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0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1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2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3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4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6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7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8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9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0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1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2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3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4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5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6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7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8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9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0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1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2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3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4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5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6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7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8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9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0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1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2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3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4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5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6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7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8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9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0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1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2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3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4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5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6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7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8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9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0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1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2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3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4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5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6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7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8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9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0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1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2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3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4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5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6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7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8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9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0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1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2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3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4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5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6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7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861-F190-474D-BC13-B0CAD1AE29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بسم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له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من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ی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0" y="3505320"/>
            <a:ext cx="86868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عناصر و ویژگیهای مشترک سازمانها 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سازمانها هدف دارن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از ترکیب اجتماعی افراد تشکیل شده ان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ffff"/>
                </a:solidFill>
                <a:latin typeface="Arial"/>
              </a:rPr>
              <a:t>« سازمان و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4" dur="2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0" y="266688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آنها استمرار زمانی دار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خود را با استفاده از دانش انجام می ده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سازمانها ساختارمند و عقلائی عمل می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0" y="35812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مشترک المنافع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سازمانهای تجاری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خدماتی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رفاه عموم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0" y="251460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0099ff"/>
                </a:solidFill>
                <a:latin typeface="Arial"/>
              </a:rPr>
              <a:t>انواع سازمانها از دیدگاه « بلا واسکات »: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2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3352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 هنر انجام کار بوسیله دیگران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ایجار محیط مؤثر برای اعضاء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 هماهنگ سازی منابع سه گانه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فراگرد تبدیل اطلاعات به عمل.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تعریف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0" y="335268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منظم و سازمان یافت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 هدف مند بود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روابط میان منابع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انجام کار بوسیله دیگرا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تصمیم گیر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cffff"/>
                </a:solidFill>
                <a:latin typeface="Arial"/>
              </a:rPr>
              <a:t> « ملاک های لازم برای مدیریت در سازمان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1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0" y="30481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چه باید کر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چگونه انجام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چگونه تقسیم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چه کسانی کار را انجام خواهند دا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فراگرد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9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27432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با چه وسایلی انجام داده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ظرف چه مدت انجام داده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7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با چه کیفیتی باید انجام شو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8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عملا با چه کیفیتی انجام می شود؟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Arial"/>
              </a:rPr>
              <a:t> « کارکردهای مدیریت 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4"/>
          <p:cNvSpPr/>
          <p:nvPr/>
        </p:nvSpPr>
        <p:spPr>
          <a:xfrm>
            <a:off x="1447920" y="3352680"/>
            <a:ext cx="167616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هماهنگ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1" name="AutoShape 5"/>
          <p:cNvSpPr/>
          <p:nvPr/>
        </p:nvSpPr>
        <p:spPr>
          <a:xfrm>
            <a:off x="3505320" y="4267080"/>
            <a:ext cx="167616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برنامه ریز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2" name="AutoShape 6"/>
          <p:cNvSpPr/>
          <p:nvPr/>
        </p:nvSpPr>
        <p:spPr>
          <a:xfrm>
            <a:off x="1523880" y="5105520"/>
            <a:ext cx="1676520" cy="152388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b5b89"/>
                </a:solidFill>
                <a:latin typeface="Tahoma"/>
              </a:rPr>
              <a:t>کنتر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3" name="AutoShape 7"/>
          <p:cNvSpPr/>
          <p:nvPr/>
        </p:nvSpPr>
        <p:spPr>
          <a:xfrm>
            <a:off x="5486400" y="5105520"/>
            <a:ext cx="1676520" cy="152388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فرمانده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4" name="AutoShape 8"/>
          <p:cNvSpPr/>
          <p:nvPr/>
        </p:nvSpPr>
        <p:spPr>
          <a:xfrm>
            <a:off x="5410080" y="3352680"/>
            <a:ext cx="167652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سازمانده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3522960" y="38098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برنامه ریز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3997800" y="53341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هدای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5054760" y="45720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سازمانده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2703600" y="45720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کنترل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1" name="Line 13"/>
          <p:cNvSpPr/>
          <p:nvPr/>
        </p:nvSpPr>
        <p:spPr>
          <a:xfrm>
            <a:off x="3276720" y="35053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2" name="Line 23"/>
          <p:cNvSpPr/>
          <p:nvPr/>
        </p:nvSpPr>
        <p:spPr>
          <a:xfrm>
            <a:off x="4648320" y="4419720"/>
            <a:ext cx="0" cy="91440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3" name="Line 24"/>
          <p:cNvSpPr/>
          <p:nvPr/>
        </p:nvSpPr>
        <p:spPr>
          <a:xfrm>
            <a:off x="4267080" y="4876920"/>
            <a:ext cx="83844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0" y="2209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ffff"/>
                </a:solidFill>
                <a:latin typeface="Tahoma"/>
              </a:rPr>
              <a:t>« روابط متقابل کارکردهای مدیریت »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5" name="AutoShape 31"/>
          <p:cNvSpPr/>
          <p:nvPr/>
        </p:nvSpPr>
        <p:spPr>
          <a:xfrm flipH="1" flipV="1">
            <a:off x="3276000" y="3961800"/>
            <a:ext cx="533160" cy="60948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6" name="AutoShape 32"/>
          <p:cNvSpPr/>
          <p:nvPr/>
        </p:nvSpPr>
        <p:spPr>
          <a:xfrm rot="5400000">
            <a:off x="3161880" y="5143680"/>
            <a:ext cx="762120" cy="53316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7" name="AutoShape 33"/>
          <p:cNvSpPr/>
          <p:nvPr/>
        </p:nvSpPr>
        <p:spPr>
          <a:xfrm flipH="1" flipV="1" rot="10638600">
            <a:off x="5332680" y="5180040"/>
            <a:ext cx="533160" cy="61020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8" name="AutoShape 34"/>
          <p:cNvSpPr/>
          <p:nvPr/>
        </p:nvSpPr>
        <p:spPr>
          <a:xfrm flipH="1" flipV="1" rot="5400000">
            <a:off x="5295600" y="4075920"/>
            <a:ext cx="685800" cy="45720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8500"/>
                            </p:stCondLst>
                            <p:childTnLst>
                              <p:par>
                                <p:cTn id="4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000"/>
                            </p:stCondLst>
                            <p:childTnLst>
                              <p:par>
                                <p:cTn id="4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0" y="32004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سنتی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شیوه بررسی مور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رفتاری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دیدگاه تصمیم گی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مقداری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سیستم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شیوه های مطالعه مدیریت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94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درس: مدیریت آموزشگاهی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کتاب:مقدمات مدیریت آموزشی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Verdana"/>
              </a:rPr>
              <a:t>       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مؤلف:دکتر علی علاقه بند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مدرس: یگانه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تعداد واحد: </a:t>
            </a: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5" descr="SuperStock_143-322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54" name="WordArt 6"/>
          <p:cNvSpPr txBox="1"/>
          <p:nvPr/>
        </p:nvSpPr>
        <p:spPr>
          <a:xfrm>
            <a:off x="3505320" y="18288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پایا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درس مدیریت یکی از دروس اصلی رشته علوم تربیتی با گرایش های مدیریت و برنامه ریزی و دبستانی و پیش دبستانی اس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0" y="2209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e5e5ff"/>
                </a:solidFill>
                <a:latin typeface="Tahoma"/>
              </a:rPr>
              <a:t>به طور کلی هدف از تألیف کتاب ، زمینه سازی برای شناخت علمی مدیریت و رهبری در آموزش و پرورش و تفکر درباره مسائل آن است.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123720" y="3594240"/>
            <a:ext cx="2971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WordArt 4"/>
          <p:cNvSpPr txBox="1"/>
          <p:nvPr/>
        </p:nvSpPr>
        <p:spPr>
          <a:xfrm>
            <a:off x="2895480" y="160020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259092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600" spc="-1" strike="noStrike">
                <a:solidFill>
                  <a:srgbClr val="e5e5ff"/>
                </a:solidFill>
                <a:latin typeface="Garamond"/>
              </a:rPr>
              <a:t>جامعه امروز یک جامعه سازمانی است.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</a:rPr>
              <a:t>از ابتدای تاریخ ضرورت زندگی اجتماعی ، انسانها را دور هم جمع کرده است.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762120" y="1676520"/>
            <a:ext cx="7467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0" y="350532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هرگاه افراد انسان که با هم زندگی می کنند یا به اقتضای زندگی اجتماعی دور هم جمع می شوند ، الگویی را به وجود می آورند که اصطلاحا سازمان اجتماعی نام دارد.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4000" spc="-1" strike="noStrike">
                <a:solidFill>
                  <a:srgbClr val="66ffff"/>
                </a:solidFill>
                <a:latin typeface="Garamond"/>
              </a:rPr>
              <a:t>« سازمان اجتماع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00"/>
                </a:solidFill>
                <a:latin typeface="Garamond"/>
              </a:rPr>
              <a:t>سازمان اجتماعی : </a:t>
            </a:r>
            <a:r>
              <a:rPr b="1" lang="fa-IR" sz="3200" spc="-1" strike="noStrike">
                <a:solidFill>
                  <a:srgbClr val="e5e5ff"/>
                </a:solidFill>
                <a:latin typeface="Garamond"/>
              </a:rPr>
              <a:t>الگوی روابط اجتماعی ، باورها ، جهت گیریهای مشترک را شامل می شو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سازمان دارای دو وجه اصلی است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44956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سازمانها از یک منظر بر دو نوع هستند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رسمی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غیر رسم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22860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- الگو یا ساختار روابط اجتماع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- مجموعه باورها و جهت گیری های مشترک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0" y="266688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200" spc="-1" strike="noStrike">
                <a:solidFill>
                  <a:srgbClr val="00ffff"/>
                </a:solidFill>
                <a:latin typeface="Garamond"/>
              </a:rPr>
              <a:t>مجموعه این وظایف « سرپرستی و نظارت ، هماهنگی ، هدایت،» که رفتار و فعالیت سازمانی را در مسیر هدف تنظیم،تصحیح،تقویت و راهنمایی می کند ، مدیریت نام دار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46:42Z</dcterms:created>
  <dc:creator>Amin</dc:creator>
  <dc:description/>
  <dc:language>en-US</dc:language>
  <cp:lastModifiedBy>Aramesh</cp:lastModifiedBy>
  <dcterms:modified xsi:type="dcterms:W3CDTF">2020-04-18T11:25:17Z</dcterms:modified>
  <cp:revision>358</cp:revision>
  <dc:subject/>
  <dc:title>بسم الله الرحمن الرحیم</dc:title>
</cp:coreProperties>
</file>