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8D43C-20E4-44BB-8AE5-EF531C4CEFA4}" type="slidenum">
              <a:rPr b="0" lang="fa-IR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D0FC1-DA05-4D3F-B647-F28E4682C235}" type="slidenum">
              <a:rPr b="0" lang="fa-IR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1921A-7FC1-4270-A41F-A68F4ABEABB9}" type="slidenum">
              <a:rPr b="0" lang="fa-IR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6EADE-5ED3-4B93-A84C-889C3245B2B1}" type="slidenum">
              <a:rPr b="0" lang="fa-IR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0F656-0FEF-4216-8E36-A686B354B010}" type="slidenum">
              <a:rPr b="0" lang="fa-IR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7DE77-AE87-4D26-A3CD-CADF974CDA79}" type="slidenum">
              <a:rPr b="0" lang="fa-IR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B76C5-8AB9-409A-8F2D-9CA9F9E0A415}" type="slidenum">
              <a:rPr b="0" lang="fa-IR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C026E-1107-446E-9B34-E0698B6ADE57}" type="slidenum">
              <a:rPr b="0" lang="fa-IR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66F26-DE20-4391-8685-CF2A36307011}" type="slidenum">
              <a:rPr b="0" lang="fa-IR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9C613-1351-42FF-8074-584FE3F99869}" type="slidenum">
              <a:rPr b="0" lang="fa-IR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42574-AABD-4156-95BA-D9E053EAE969}" type="slidenum">
              <a:rPr b="0" lang="fa-IR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1A225-843E-452A-97BA-714CF458371B}" type="slidenum">
              <a:rPr b="0" lang="fa-IR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D8785-6B57-4C9A-BA33-E32F2704A576}" type="slidenum">
              <a:rPr b="0" lang="fa-IR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529E8-8798-425E-ABF6-775F00802DFF}" type="slidenum">
              <a:rPr b="0" lang="fa-IR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D1584-CDC7-4A47-AD36-63EB6EA0660D}" type="slidenum">
              <a:rPr b="0" lang="fa-IR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F84ED-5D42-43D5-91D5-87F42A1F0762}" type="slidenum">
              <a:rPr b="0" lang="fa-IR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4F770-F65C-43D9-B8B1-B8B7A4C2B01F}" type="slidenum">
              <a:rPr b="0" lang="fa-IR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272F7-3F5A-4AE3-8BC7-FF74593664CB}" type="slidenum">
              <a:rPr b="0" lang="fa-IR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FE8E4-C690-43F8-8D0D-B70B796C63D4}" type="slidenum">
              <a:rPr b="0" lang="fa-IR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A4F8F-E880-4BDF-AB39-121BD94A5D2C}" type="slidenum">
              <a:rPr b="0" lang="fa-IR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AAA4B-ED66-4A4F-A927-AB1458977147}" type="slidenum">
              <a:rPr b="0" lang="fa-IR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00ADF-FDF4-4EC3-B0C8-3995C9929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51DCB-D4C3-49C8-831B-CB7DCDE02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486D2-0CDD-49A3-9BA9-D81CBE1B1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CC206-34AD-4782-8041-4A31F1CD4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AF931-44BF-45DE-A96B-B54DD7672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32207-E5A9-4E5A-9C9E-B8703F99E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3CD5C-2A9E-49F4-ACC3-835B325BB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1237D-F2A9-4A91-B536-20FE388C6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27E71-9465-4B7C-9D1F-EFFA153F3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FBE1F-0822-49B5-B08B-995534DDB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8E514-D771-4181-955F-A836E76CD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C6D5A-976C-4260-86BD-608457578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3F358-EA0A-4D97-AB62-A49F7112D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B9E36-4AC2-4D1C-B45E-B1E015FB8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C8BFA-D106-4AB5-8783-CE428208E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7DB8B-3787-456D-91BF-8EC4E50C8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6D585-0CF1-4628-A42C-4B844C99A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1E26C35-FE5F-498C-AD2F-4A0A34A99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256BFA-469A-483D-AAF4-135643707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5081F30-C788-4793-A765-DFCF9AABE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81DD5D-681A-46CE-A103-C90528B7C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0AA50B8-F080-46E7-B1F2-92317573D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73F6F-17DC-4460-AF4C-E130DB660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0E7ED93-78BD-4505-AD8B-730522A1D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2305902-86AF-415B-B617-873FFF6F4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8939082-067F-44A0-94D7-434680FEF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148B97E-4A47-4E1B-9FD4-44C5C557B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A5915B5-E78E-49BC-B9B3-965F4324D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2943F76-8FB8-4DA7-A573-0AFF37E87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FDCC835-B498-4958-924F-8F09C8A91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04A85C-93B7-410C-B0EF-A094B96BD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77FB4B-AFFE-4947-A0DF-2D2FA2AF3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5803A5-BEAE-431A-BB94-4A778B4F4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53DC4-9380-48C0-9E63-B979E439C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66C7AA-7B33-457C-8CF5-DCB5DE6EE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CEBA5B-C2F3-4394-AD4B-B6130A952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85C890-EA59-4A5F-8BC8-36062D5F6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095571-215A-46DD-91FD-0698D6965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05B167-E5A6-4AC2-BF1A-4F2DE8A28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6EDC23-FAD0-4B15-A719-F7C7F116E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807E32-5F0D-41E3-8D7A-7ADEE3CBD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B5A6A9-EE6C-4F47-8522-10525D492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303578-968B-4A49-B1A2-0CDCA5090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BA2F16-4832-4915-B332-2DB66FDCA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1FA27-AE02-4502-A66A-2C96DC05F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3CEE52-A5BB-4844-B974-1BFC216A1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28C65C-463A-4ED6-B9E1-36D5610C0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1E1191-F331-4935-96DC-16875D589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91BE90-2DB2-4453-B083-715F23BFD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369AEC-878E-4B6D-AF2E-1136D7420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732D64-FA0D-4F78-9A61-18133AE1F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451128-1C73-4305-A7D6-16DE4A881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AB09EF-79D8-4B35-B900-9B3DDA215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E5AD61-511C-48E7-8E05-9DB10D1BF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4D9E97-F861-4107-BCBD-71F633948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3986D-BCF9-4FDD-900C-C67C4C02E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49490A-F9A0-436A-969E-35F4F60D4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982F40-EF43-4785-A7BC-B0B7E5B13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18AF74-87AE-459F-9F12-F172D83B9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52B346-CDCB-4A7C-B1D1-BEEA80E9E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260B7E-AB93-40D1-B1AD-2A2D67BA0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A425DA-FDE3-4AF6-B73D-7437C27FA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308112-117D-4314-A32D-093483AAB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3396B3-187A-4C62-8D95-713F28E54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A72000-3443-48BA-8112-0D8617E56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81817F-C22C-4360-A4CA-9E17E0AE2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F7FD6-28B1-4C63-8CDD-EDC2AAF6B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6C06D3-05D3-4676-B96A-6234DA015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957EE0-DA20-4D57-8EF0-7EBF0FC20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6E6066-877C-4E4E-8FAC-D080171D4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288D25-9C4A-442A-B32C-DE95C4983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BA0AA8-CC25-42F5-A5ED-BF139F243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39E492-B1A2-496A-B73B-9F6D09E3C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AF19D1-A07A-4D4B-BA2F-9EBAE0366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8E285D-D2B4-4A15-A9C1-2C3D1E49C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EB949E-6C75-4D3B-A0F2-16A51C155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4649CE-39C8-4D1E-81E3-90EFAC392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04386-4384-4498-AB4F-C4737D28B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F182B4-8A61-4E04-87C0-27D8EAB34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A6053A-E925-4AAF-BD99-4AC7CB25A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E85EDB-6BEC-4BFA-BB6B-96937BB0D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3A05EB-44CD-4FB9-8507-2EA79CD17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08D53A-E4C3-4DBC-BB0D-64C3FC32A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C635B3B-252C-4225-A1CA-6E55F3DA0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3FF7C87-6933-4EA4-A386-7B958468A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795A068-10CE-401F-96A7-7E0395790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1A4FED9-208C-4070-8E9E-7A023EFF1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65596D2-E023-4859-AF2E-DD8C2B402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F57E8-8F03-4373-B052-5D2087C92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63AA623-2D65-46D8-A9C5-6BE018009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2CFB2C0-F502-444F-9DE2-49ED097FD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DA76F59-489A-4DF2-9FD7-5BA05A996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1E21564-57F3-4AE2-8A90-67181D893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69B7822-8207-423D-937F-55CF96C84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F534212-A0BA-4E2D-B58A-D64203430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5585192-DA0E-43AF-B296-23AB097BD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000" spc="-1" strike="noStrike">
                <a:solidFill>
                  <a:srgbClr val="000000"/>
                </a:solidFill>
                <a:latin typeface="Verdan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54343-70BF-49F0-9BD2-BC9961CEA998}" type="slidenum">
              <a:rPr b="0" lang="fa-IR" sz="1000" spc="-1" strike="noStrike">
                <a:solidFill>
                  <a:srgbClr val="000000"/>
                </a:solidFill>
                <a:latin typeface="Verdana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79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80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2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83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a-IR" sz="26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1427B-EA30-421E-B9B3-36B49C59F66B}" type="slidenum">
              <a:rPr b="1" lang="fa-IR" sz="26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ldNum" idx="8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31285-00AC-46A3-B136-9419D777B615}" type="slidenum">
              <a:rPr b="0" lang="fa-IR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29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30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35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7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9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77" name="Freeform 3"/>
            <p:cNvSpPr/>
            <p:nvPr/>
          </p:nvSpPr>
          <p:spPr>
            <a:xfrm>
              <a:off x="0" y="4876920"/>
              <a:ext cx="9144000" cy="1981080"/>
            </a:xfrm>
            <a:prstGeom prst="pie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Freeform 4"/>
            <p:cNvSpPr/>
            <p:nvPr/>
          </p:nvSpPr>
          <p:spPr>
            <a:xfrm>
              <a:off x="0" y="0"/>
              <a:ext cx="9144000" cy="4876920"/>
            </a:xfrm>
            <a:prstGeom prst="pie">
              <a:avLst/>
            </a:pr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9" name="Freeform 5"/>
          <p:cNvSpPr/>
          <p:nvPr/>
        </p:nvSpPr>
        <p:spPr>
          <a:xfrm>
            <a:off x="6248520" y="6262560"/>
            <a:ext cx="2895480" cy="609840"/>
          </a:xfrm>
          <a:prstGeom prst="pie">
            <a:avLst/>
          </a:pr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0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181" name="Freeform 7"/>
            <p:cNvSpPr/>
            <p:nvPr/>
          </p:nvSpPr>
          <p:spPr>
            <a:xfrm>
              <a:off x="2362320" y="6019920"/>
              <a:ext cx="5143320" cy="850680"/>
            </a:xfrm>
            <a:prstGeom prst="pie">
              <a:avLst/>
            </a:pr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82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183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8" name="Freeform 14"/>
            <p:cNvSpPr/>
            <p:nvPr/>
          </p:nvSpPr>
          <p:spPr>
            <a:xfrm>
              <a:off x="0" y="6019920"/>
              <a:ext cx="6311880" cy="849240"/>
            </a:xfrm>
            <a:prstGeom prst="pie">
              <a:avLst/>
            </a:pr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9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90" name="Freeform 16"/>
            <p:cNvSpPr/>
            <p:nvPr/>
          </p:nvSpPr>
          <p:spPr>
            <a:xfrm>
              <a:off x="1898640" y="6021360"/>
              <a:ext cx="579600" cy="4618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Freeform 17"/>
            <p:cNvSpPr/>
            <p:nvPr/>
          </p:nvSpPr>
          <p:spPr>
            <a:xfrm>
              <a:off x="3084480" y="6078600"/>
              <a:ext cx="3227400" cy="79200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Freeform 18"/>
            <p:cNvSpPr/>
            <p:nvPr/>
          </p:nvSpPr>
          <p:spPr>
            <a:xfrm>
              <a:off x="2905200" y="6068880"/>
              <a:ext cx="11268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Freeform 19"/>
            <p:cNvSpPr/>
            <p:nvPr/>
          </p:nvSpPr>
          <p:spPr>
            <a:xfrm>
              <a:off x="1357200" y="6099120"/>
              <a:ext cx="255600" cy="2602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Freeform 20"/>
            <p:cNvSpPr/>
            <p:nvPr/>
          </p:nvSpPr>
          <p:spPr>
            <a:xfrm>
              <a:off x="1120680" y="6118200"/>
              <a:ext cx="9360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Freeform 21"/>
            <p:cNvSpPr/>
            <p:nvPr/>
          </p:nvSpPr>
          <p:spPr>
            <a:xfrm>
              <a:off x="627120" y="6049800"/>
              <a:ext cx="388800" cy="3286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568AF-0925-42DE-95D3-752A1E7B3D4D}" type="slidenum">
              <a:rPr b="0" lang="fa-IR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7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238" name="Freeform 3"/>
            <p:cNvSpPr/>
            <p:nvPr/>
          </p:nvSpPr>
          <p:spPr>
            <a:xfrm>
              <a:off x="8007120" y="4168800"/>
              <a:ext cx="1141200" cy="2682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Freeform 4"/>
            <p:cNvSpPr/>
            <p:nvPr/>
          </p:nvSpPr>
          <p:spPr>
            <a:xfrm>
              <a:off x="8548560" y="6022800"/>
              <a:ext cx="599760" cy="828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Freeform 5"/>
            <p:cNvSpPr/>
            <p:nvPr/>
          </p:nvSpPr>
          <p:spPr>
            <a:xfrm>
              <a:off x="9015120" y="6689880"/>
              <a:ext cx="133200" cy="1616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41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242" name="Freeform 7"/>
              <p:cNvSpPr/>
              <p:nvPr/>
            </p:nvSpPr>
            <p:spPr>
              <a:xfrm>
                <a:off x="4425480" y="0"/>
                <a:ext cx="113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Freeform 8"/>
              <p:cNvSpPr/>
              <p:nvPr/>
            </p:nvSpPr>
            <p:spPr>
              <a:xfrm>
                <a:off x="4901760" y="0"/>
                <a:ext cx="275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Freeform 9"/>
              <p:cNvSpPr/>
              <p:nvPr/>
            </p:nvSpPr>
            <p:spPr>
              <a:xfrm>
                <a:off x="5328720" y="0"/>
                <a:ext cx="534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Freeform 10"/>
              <p:cNvSpPr/>
              <p:nvPr/>
            </p:nvSpPr>
            <p:spPr>
              <a:xfrm>
                <a:off x="5833440" y="0"/>
                <a:ext cx="6775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Freeform 11"/>
              <p:cNvSpPr/>
              <p:nvPr/>
            </p:nvSpPr>
            <p:spPr>
              <a:xfrm>
                <a:off x="6262200" y="0"/>
                <a:ext cx="8852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Freeform 12"/>
              <p:cNvSpPr/>
              <p:nvPr/>
            </p:nvSpPr>
            <p:spPr>
              <a:xfrm>
                <a:off x="6738480" y="0"/>
                <a:ext cx="1094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Freeform 13"/>
              <p:cNvSpPr/>
              <p:nvPr/>
            </p:nvSpPr>
            <p:spPr>
              <a:xfrm>
                <a:off x="7176600" y="0"/>
                <a:ext cx="13712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Freeform 14"/>
              <p:cNvSpPr/>
              <p:nvPr/>
            </p:nvSpPr>
            <p:spPr>
              <a:xfrm>
                <a:off x="3806280" y="0"/>
                <a:ext cx="237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Freeform 15"/>
              <p:cNvSpPr/>
              <p:nvPr/>
            </p:nvSpPr>
            <p:spPr>
              <a:xfrm>
                <a:off x="3120480" y="0"/>
                <a:ext cx="4759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Freeform 16"/>
              <p:cNvSpPr/>
              <p:nvPr/>
            </p:nvSpPr>
            <p:spPr>
              <a:xfrm>
                <a:off x="2484000" y="0"/>
                <a:ext cx="6742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Freeform 17"/>
              <p:cNvSpPr/>
              <p:nvPr/>
            </p:nvSpPr>
            <p:spPr>
              <a:xfrm>
                <a:off x="1788480" y="0"/>
                <a:ext cx="912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Freeform 18"/>
              <p:cNvSpPr/>
              <p:nvPr/>
            </p:nvSpPr>
            <p:spPr>
              <a:xfrm>
                <a:off x="1112400" y="0"/>
                <a:ext cx="11696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Freeform 19"/>
              <p:cNvSpPr/>
              <p:nvPr/>
            </p:nvSpPr>
            <p:spPr>
              <a:xfrm>
                <a:off x="455400" y="0"/>
                <a:ext cx="13330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55" name="Freeform 20"/>
            <p:cNvSpPr/>
            <p:nvPr/>
          </p:nvSpPr>
          <p:spPr>
            <a:xfrm>
              <a:off x="7560" y="4605480"/>
              <a:ext cx="961920" cy="22460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Freeform 21"/>
            <p:cNvSpPr/>
            <p:nvPr/>
          </p:nvSpPr>
          <p:spPr>
            <a:xfrm>
              <a:off x="7560" y="6175440"/>
              <a:ext cx="361800" cy="67608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Freeform 22"/>
            <p:cNvSpPr/>
            <p:nvPr/>
          </p:nvSpPr>
          <p:spPr>
            <a:xfrm>
              <a:off x="7580160" y="0"/>
              <a:ext cx="1561680" cy="283536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Freeform 23"/>
            <p:cNvSpPr/>
            <p:nvPr/>
          </p:nvSpPr>
          <p:spPr>
            <a:xfrm>
              <a:off x="8000640" y="0"/>
              <a:ext cx="1141200" cy="1341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Freeform 24"/>
            <p:cNvSpPr/>
            <p:nvPr/>
          </p:nvSpPr>
          <p:spPr>
            <a:xfrm>
              <a:off x="8494560" y="0"/>
              <a:ext cx="647280" cy="657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Freeform 25"/>
            <p:cNvSpPr/>
            <p:nvPr/>
          </p:nvSpPr>
          <p:spPr>
            <a:xfrm>
              <a:off x="7560" y="0"/>
              <a:ext cx="1361880" cy="223668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Freeform 26"/>
            <p:cNvSpPr/>
            <p:nvPr/>
          </p:nvSpPr>
          <p:spPr>
            <a:xfrm>
              <a:off x="7560" y="0"/>
              <a:ext cx="933120" cy="9507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Freeform 27"/>
            <p:cNvSpPr/>
            <p:nvPr/>
          </p:nvSpPr>
          <p:spPr>
            <a:xfrm>
              <a:off x="7560" y="0"/>
              <a:ext cx="428400" cy="3999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66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267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72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000" spc="-1" strike="noStrike">
                <a:solidFill>
                  <a:srgbClr val="000000"/>
                </a:solidFill>
                <a:latin typeface="Verdan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AC1F8-D95B-44BA-9A9E-F5209F2A648B}" type="slidenum">
              <a:rPr b="0" lang="fa-IR" sz="1000" spc="-1" strike="noStrike">
                <a:solidFill>
                  <a:srgbClr val="000000"/>
                </a:solidFill>
                <a:latin typeface="Verdana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5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316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8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319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 type="dt" idx="16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 type="ftr" idx="17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 type="sldNum" idx="18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a-IR" sz="26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616A3-B0C2-4D83-8E6C-BF853F397E6A}" type="slidenum">
              <a:rPr b="1" lang="fa-IR" sz="26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2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63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364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69" name="Freeform 9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Freeform 10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dt" idx="19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ftr" idx="20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sldNum" idx="21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E7E86-68E1-44E8-8E51-03F3E7B65784}" type="slidenum">
              <a:rPr b="0" lang="fa-IR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2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13" name="Freeform 3"/>
            <p:cNvSpPr/>
            <p:nvPr/>
          </p:nvSpPr>
          <p:spPr>
            <a:xfrm>
              <a:off x="-6480" y="4897440"/>
              <a:ext cx="9144000" cy="1981080"/>
            </a:xfrm>
            <a:prstGeom prst="pie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Freeform 4"/>
            <p:cNvSpPr/>
            <p:nvPr/>
          </p:nvSpPr>
          <p:spPr>
            <a:xfrm>
              <a:off x="-6480" y="20520"/>
              <a:ext cx="9144000" cy="4876920"/>
            </a:xfrm>
            <a:prstGeom prst="pie">
              <a:avLst/>
            </a:pr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15" name="Freeform 5"/>
          <p:cNvSpPr/>
          <p:nvPr/>
        </p:nvSpPr>
        <p:spPr>
          <a:xfrm>
            <a:off x="6242040" y="6269040"/>
            <a:ext cx="2895480" cy="609480"/>
          </a:xfrm>
          <a:prstGeom prst="pie">
            <a:avLst/>
          </a:pr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6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17" name="Freeform 7"/>
            <p:cNvSpPr/>
            <p:nvPr/>
          </p:nvSpPr>
          <p:spPr>
            <a:xfrm>
              <a:off x="2360520" y="6033960"/>
              <a:ext cx="5142960" cy="850680"/>
            </a:xfrm>
            <a:prstGeom prst="pie">
              <a:avLst/>
            </a:pr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18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419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0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1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2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3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24" name="Freeform 14"/>
            <p:cNvSpPr/>
            <p:nvPr/>
          </p:nvSpPr>
          <p:spPr>
            <a:xfrm>
              <a:off x="-1440" y="6033960"/>
              <a:ext cx="6311520" cy="849240"/>
            </a:xfrm>
            <a:prstGeom prst="pie">
              <a:avLst/>
            </a:pr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25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426" name="Freeform 16"/>
            <p:cNvSpPr/>
            <p:nvPr/>
          </p:nvSpPr>
          <p:spPr>
            <a:xfrm>
              <a:off x="1898640" y="6021360"/>
              <a:ext cx="579600" cy="4618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Freeform 17"/>
            <p:cNvSpPr/>
            <p:nvPr/>
          </p:nvSpPr>
          <p:spPr>
            <a:xfrm>
              <a:off x="3084480" y="6078600"/>
              <a:ext cx="3227400" cy="79200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Freeform 18"/>
            <p:cNvSpPr/>
            <p:nvPr/>
          </p:nvSpPr>
          <p:spPr>
            <a:xfrm>
              <a:off x="2905200" y="6068880"/>
              <a:ext cx="11268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Freeform 19"/>
            <p:cNvSpPr/>
            <p:nvPr/>
          </p:nvSpPr>
          <p:spPr>
            <a:xfrm>
              <a:off x="1357200" y="6099120"/>
              <a:ext cx="255600" cy="2602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Freeform 20"/>
            <p:cNvSpPr/>
            <p:nvPr/>
          </p:nvSpPr>
          <p:spPr>
            <a:xfrm>
              <a:off x="1120680" y="6118200"/>
              <a:ext cx="9360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Freeform 21"/>
            <p:cNvSpPr/>
            <p:nvPr/>
          </p:nvSpPr>
          <p:spPr>
            <a:xfrm>
              <a:off x="627120" y="6049800"/>
              <a:ext cx="388800" cy="3286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 type="sldNum" idx="2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A25FC-9107-4DE0-A071-77994E27D38D}" type="slidenum">
              <a:rPr b="0" lang="fa-IR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 type="ftr" idx="2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534160" cy="6354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ff00"/>
                </a:solidFill>
                <a:latin typeface="Arial"/>
                <a:cs typeface="B Sina"/>
              </a:rPr>
              <a:t>نام درس</a:t>
            </a:r>
            <a:br>
              <a:rPr sz="2400"/>
            </a:br>
            <a:r>
              <a:rPr b="0" lang="fa-IR" sz="2000" spc="-1" strike="noStrike">
                <a:solidFill>
                  <a:srgbClr val="ffff00"/>
                </a:solidFill>
                <a:latin typeface="Arial"/>
                <a:ea typeface="B Sina"/>
              </a:rPr>
              <a:t> روش تحقیق و آمار در علوم تربیتی و روانشناسی</a:t>
            </a:r>
            <a:br>
              <a:rPr sz="2400"/>
            </a:br>
            <a:r>
              <a:rPr b="0" lang="fa-IR" sz="2400" spc="-1" strike="noStrike">
                <a:solidFill>
                  <a:srgbClr val="ffff00"/>
                </a:solidFill>
                <a:latin typeface="Arial"/>
                <a:cs typeface="B Sina"/>
              </a:rPr>
              <a:t>تعداد واحد درسی </a:t>
            </a:r>
            <a:r>
              <a:rPr b="0" lang="fa-IR" sz="2400" spc="-1" strike="noStrike">
                <a:solidFill>
                  <a:srgbClr val="ffff00"/>
                </a:solidFill>
                <a:latin typeface="Arial"/>
                <a:ea typeface="B Sina"/>
              </a:rPr>
              <a:t>3</a:t>
            </a:r>
            <a:br>
              <a:rPr sz="2400"/>
            </a:br>
            <a:r>
              <a:rPr b="0" lang="fa-IR" sz="2400" spc="-1" strike="noStrike">
                <a:solidFill>
                  <a:srgbClr val="ffff00"/>
                </a:solidFill>
                <a:latin typeface="Arial"/>
                <a:cs typeface="B Sina"/>
              </a:rPr>
              <a:t>نام منبع </a:t>
            </a:r>
            <a:br>
              <a:rPr sz="2400"/>
            </a:br>
            <a:r>
              <a:rPr b="0" lang="fa-IR" sz="2000" spc="-1" strike="noStrike">
                <a:solidFill>
                  <a:srgbClr val="ffff00"/>
                </a:solidFill>
                <a:latin typeface="Arial"/>
                <a:cs typeface="B Sina"/>
              </a:rPr>
              <a:t>روش تحقیق در روان شناسی و علوم تربیتی</a:t>
            </a:r>
            <a:br>
              <a:rPr sz="2400"/>
            </a:br>
            <a:r>
              <a:rPr b="0" lang="fa-IR" sz="2400" spc="-1" strike="noStrike">
                <a:solidFill>
                  <a:srgbClr val="ffff00"/>
                </a:solidFill>
                <a:latin typeface="Arial"/>
                <a:cs typeface="B Sina"/>
              </a:rPr>
              <a:t>مولف: دکترعلی دلاور</a:t>
            </a:r>
            <a:br>
              <a:rPr sz="2400"/>
            </a:br>
            <a:r>
              <a:rPr b="0" lang="fa-IR" sz="2400" spc="-1" strike="noStrike">
                <a:solidFill>
                  <a:srgbClr val="ffff00"/>
                </a:solidFill>
                <a:latin typeface="Arial"/>
                <a:cs typeface="B Sina"/>
              </a:rPr>
              <a:t>مدرس: یگانه</a:t>
            </a:r>
            <a:br>
              <a:rPr sz="2400"/>
            </a:b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e3e3ff"/>
                </a:solidFill>
                <a:latin typeface="Arial"/>
                <a:cs typeface="B Zar"/>
              </a:rPr>
              <a:t>فرمول برآورداندازه نمونه برای مقایسه دو گروه:</a:t>
            </a:r>
            <a:endParaRPr b="0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subTitle"/>
          </p:nvPr>
        </p:nvSpPr>
        <p:spPr>
          <a:xfrm>
            <a:off x="838080" y="3276360"/>
            <a:ext cx="77724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ffffff"/>
                </a:solidFill>
                <a:latin typeface="Arial"/>
                <a:cs typeface="B Zar"/>
              </a:rPr>
              <a:t>فرمول برآورد اندازه نمونه برای یک گروه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5" name="Object 16"/>
              <p:cNvSpPr txBox="1"/>
              <p:nvPr/>
            </p:nvSpPr>
            <p:spPr>
              <a:xfrm>
                <a:off x="838080" y="1295280"/>
                <a:ext cx="2438640" cy="113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z</m:t>
                        </m:r>
                        <m:sSup>
                          <m:e>
                            <m:r>
                              <m:t xml:space="preserve">∝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6" name="Object 17"/>
              <p:cNvSpPr txBox="1"/>
              <p:nvPr/>
            </p:nvSpPr>
            <p:spPr>
              <a:xfrm>
                <a:off x="838080" y="2895480"/>
                <a:ext cx="2210040" cy="112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z</m:t>
                        </m:r>
                        <m:sSup>
                          <m:e>
                            <m:r>
                              <m:t xml:space="preserve">∝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 spd="slow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 rtl="1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ffffff"/>
                </a:solidFill>
                <a:latin typeface="Arial"/>
                <a:cs typeface="B Zar"/>
              </a:rPr>
              <a:t>در مطالعات همبستگی حجم نمونه حداقل بایستی </a:t>
            </a:r>
            <a:r>
              <a:rPr b="1" lang="fa-IR" sz="3600" spc="-1" strike="noStrike">
                <a:solidFill>
                  <a:srgbClr val="ffffff"/>
                </a:solidFill>
                <a:latin typeface="Arial"/>
                <a:ea typeface="B Zar"/>
              </a:rPr>
              <a:t>30</a:t>
            </a:r>
            <a:r>
              <a:rPr b="1" lang="fa-IR" sz="3600" spc="-1" strike="noStrike">
                <a:solidFill>
                  <a:srgbClr val="ffffff"/>
                </a:solidFill>
                <a:latin typeface="Arial"/>
                <a:ea typeface="B Zar"/>
              </a:rPr>
              <a:t> نفر باشد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"/>
          <p:cNvSpPr txBox="1"/>
          <p:nvPr/>
        </p:nvSpPr>
        <p:spPr>
          <a:xfrm>
            <a:off x="1596240" y="834120"/>
            <a:ext cx="778032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006666"/>
                </a:solidFill>
                <a:latin typeface="Arial"/>
                <a:cs typeface="B Zar"/>
              </a:rPr>
              <a:t>تحقیق تاریخی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003366"/>
                </a:solidFill>
                <a:latin typeface="Arial"/>
                <a:cs typeface="B Zar"/>
              </a:rPr>
              <a:t>پس از پایان این فصل دانشجو باید: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3366"/>
                </a:solidFill>
                <a:latin typeface="Arial"/>
                <a:ea typeface="B Zar"/>
              </a:rPr>
              <a:t>1</a:t>
            </a:r>
            <a:r>
              <a:rPr b="0" lang="fa-IR" sz="2800" spc="-1" strike="noStrike">
                <a:solidFill>
                  <a:srgbClr val="003366"/>
                </a:solidFill>
                <a:latin typeface="Arial"/>
                <a:ea typeface="B Zar"/>
              </a:rPr>
              <a:t>. با ماهیت واهداف پژوهش تاریخی آشنا شود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3366"/>
                </a:solidFill>
                <a:latin typeface="Arial"/>
                <a:ea typeface="B Zar"/>
              </a:rPr>
              <a:t>2</a:t>
            </a:r>
            <a:r>
              <a:rPr b="0" lang="fa-IR" sz="2800" spc="-1" strike="noStrike">
                <a:solidFill>
                  <a:srgbClr val="003366"/>
                </a:solidFill>
                <a:latin typeface="Arial"/>
                <a:ea typeface="B Zar"/>
              </a:rPr>
              <a:t>. مراحل پژوهش تاریخی را نام ببرید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3366"/>
                </a:solidFill>
                <a:latin typeface="Arial"/>
                <a:ea typeface="B Zar"/>
              </a:rPr>
              <a:t>3</a:t>
            </a:r>
            <a:r>
              <a:rPr b="0" lang="fa-IR" sz="2800" spc="-1" strike="noStrike">
                <a:solidFill>
                  <a:srgbClr val="003366"/>
                </a:solidFill>
                <a:latin typeface="Arial"/>
                <a:ea typeface="B Zar"/>
              </a:rPr>
              <a:t>. منابع مدارک تاریخی را بشناسد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slow">
    <p:randomBa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a-IR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 rtl="1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ffffff"/>
                </a:solidFill>
                <a:latin typeface="Garamond"/>
                <a:cs typeface="B Zar"/>
              </a:rPr>
              <a:t>براساس گفته قدمای یونان ، تاریخ عبارت است از پژوهش به منظور باز سازی اتفاقات گذشته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e5e5ff"/>
                </a:solidFill>
                <a:latin typeface="Garamond"/>
                <a:cs typeface="B Zar"/>
              </a:rPr>
              <a:t>ویژگیهای پژوهش تاریخی :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  <a:ea typeface="B Zar"/>
              </a:rPr>
              <a:t>1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  <a:ea typeface="B Zar"/>
              </a:rPr>
              <a:t>. پیچیدگی نسبی اطلاعات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  <a:ea typeface="B Zar"/>
              </a:rPr>
              <a:t>2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  <a:ea typeface="B Zar"/>
              </a:rPr>
              <a:t>. گاهی ناقص بودن اطلاعات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  <a:ea typeface="B Zar"/>
              </a:rPr>
              <a:t>3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  <a:ea typeface="B Zar"/>
              </a:rPr>
              <a:t>. عدم توانایی در آزمون آنها به صورت آزمایشی وکنترل شرایط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  <a:ea typeface="B Zar"/>
              </a:rPr>
              <a:t>4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  <a:ea typeface="B Zar"/>
              </a:rPr>
              <a:t>. نسبی بودن معیارهای تجزیه وتحلیل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 rtl="1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e5e5ff"/>
                </a:solidFill>
                <a:latin typeface="Garamond"/>
                <a:cs typeface="B Zar"/>
              </a:rPr>
              <a:t>پژوهش تاریخی را می توان بر اساس ملاکهای زیر طبقه بندی کرد: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  <a:ea typeface="B Zar"/>
              </a:rPr>
              <a:t>1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  <a:ea typeface="B Zar"/>
              </a:rPr>
              <a:t>. روش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  <a:ea typeface="B Zar"/>
              </a:rPr>
              <a:t>2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  <a:ea typeface="B Zar"/>
              </a:rPr>
              <a:t>. موضوع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  <a:ea typeface="B Zar"/>
              </a:rPr>
              <a:t>3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  <a:ea typeface="B Zar"/>
              </a:rPr>
              <a:t>. تکنیک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e5e5ff"/>
                </a:solidFill>
                <a:latin typeface="Garamond"/>
                <a:cs typeface="B Zar"/>
              </a:rPr>
              <a:t>اهداف پژوهش تاریخی: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  <a:ea typeface="B Zar"/>
              </a:rPr>
              <a:t>1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  <a:ea typeface="B Zar"/>
              </a:rPr>
              <a:t>. هدف مقدماتی آن بدست آوردن دیدگاه روشنی از زمان حال است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  <a:ea typeface="B Zar"/>
              </a:rPr>
              <a:t>2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  <a:ea typeface="B Zar"/>
              </a:rPr>
              <a:t>. محرک اصلی آن تمایلات مورخ در دستیابی به حقایق گذشته است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cover dir="l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e5e5ff"/>
                </a:solidFill>
                <a:latin typeface="Garamond"/>
                <a:cs typeface="B Zar"/>
              </a:rPr>
              <a:t>مراحل: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  <a:ea typeface="B Zar"/>
              </a:rPr>
              <a:t>1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  <a:ea typeface="B Zar"/>
              </a:rPr>
              <a:t>. تعریف ومحدود کردن مسأله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  <a:ea typeface="B Zar"/>
              </a:rPr>
              <a:t>2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  <a:ea typeface="B Zar"/>
              </a:rPr>
              <a:t>. صورتبندی کردن فرضیه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  <a:ea typeface="B Zar"/>
              </a:rPr>
              <a:t>3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  <a:ea typeface="B Zar"/>
              </a:rPr>
              <a:t>. جمع آوری کردن اطلاعات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  <a:ea typeface="B Zar"/>
              </a:rPr>
              <a:t>4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  <a:ea typeface="B Zar"/>
              </a:rPr>
              <a:t>. ارزشیابی اطلاعات ومنابع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  <a:ea typeface="B Zar"/>
              </a:rPr>
              <a:t>5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  <a:ea typeface="B Zar"/>
              </a:rPr>
              <a:t>. تجزیه وتحلیل و نتیجه گیری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  <a:ea typeface="B Zar"/>
              </a:rPr>
              <a:t>6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  <a:ea typeface="B Zar"/>
              </a:rPr>
              <a:t>. تهیه گزارش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1" name="Content Placeholder 224261"/>
          <p:cNvGrpSpPr/>
          <p:nvPr/>
        </p:nvGrpSpPr>
        <p:grpSpPr>
          <a:xfrm>
            <a:off x="457200" y="685800"/>
            <a:ext cx="8228160" cy="3809160"/>
            <a:chOff x="457200" y="685800"/>
            <a:chExt cx="8228160" cy="3809160"/>
          </a:xfrm>
        </p:grpSpPr>
        <p:cxnSp>
          <p:nvCxnSpPr>
            <p:cNvPr id="532" name="_s4100"/>
            <p:cNvCxnSpPr>
              <a:stCxn id="533" idx="3"/>
              <a:endCxn id="534" idx="2"/>
            </p:cNvCxnSpPr>
            <p:nvPr/>
          </p:nvCxnSpPr>
          <p:spPr>
            <a:xfrm flipV="1">
              <a:off x="5393880" y="1637280"/>
              <a:ext cx="823320" cy="23814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535" name="_s4101"/>
            <p:cNvCxnSpPr>
              <a:stCxn id="536" idx="3"/>
              <a:endCxn id="534" idx="2"/>
            </p:cNvCxnSpPr>
            <p:nvPr/>
          </p:nvCxnSpPr>
          <p:spPr>
            <a:xfrm flipV="1">
              <a:off x="5393880" y="1637280"/>
              <a:ext cx="823320" cy="9529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534" name="_s4102"/>
            <p:cNvSpPr/>
            <p:nvPr/>
          </p:nvSpPr>
          <p:spPr>
            <a:xfrm>
              <a:off x="3748320" y="685800"/>
              <a:ext cx="4937040" cy="9522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3600" spc="-1" strike="noStrike">
                  <a:solidFill>
                    <a:srgbClr val="ffffff"/>
                  </a:solidFill>
                  <a:latin typeface="Arial"/>
                </a:rPr>
                <a:t>طبقه بندی منابع تاریخی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6" name="_s4103"/>
            <p:cNvSpPr/>
            <p:nvPr/>
          </p:nvSpPr>
          <p:spPr>
            <a:xfrm>
              <a:off x="457200" y="2114280"/>
              <a:ext cx="4937040" cy="9522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a-IR" sz="3200" spc="-1" strike="noStrike">
                  <a:solidFill>
                    <a:srgbClr val="ffffff"/>
                  </a:solidFill>
                  <a:latin typeface="Arial"/>
                </a:rPr>
                <a:t>اسناد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3" name="_s4104"/>
            <p:cNvSpPr/>
            <p:nvPr/>
          </p:nvSpPr>
          <p:spPr>
            <a:xfrm>
              <a:off x="457200" y="3542760"/>
              <a:ext cx="4937040" cy="9522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a-IR" sz="3200" spc="-1" strike="noStrike">
                  <a:solidFill>
                    <a:srgbClr val="ffffff"/>
                  </a:solidFill>
                  <a:latin typeface="Arial"/>
                </a:rPr>
                <a:t>آثار و ابنیه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>
    <p:wheel spokes="8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a-IR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 rtl="1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ffff66"/>
                </a:solidFill>
                <a:latin typeface="Garamond"/>
                <a:cs typeface="B Zar"/>
              </a:rPr>
              <a:t>منابع دست اول</a:t>
            </a:r>
            <a:r>
              <a:rPr b="1" lang="fa-IR" sz="3600" spc="-1" strike="noStrike">
                <a:solidFill>
                  <a:srgbClr val="ffffff"/>
                </a:solidFill>
                <a:latin typeface="Garamond"/>
                <a:ea typeface="B Zar"/>
              </a:rPr>
              <a:t> توسط مشاهده واقعی حادثه ارائه شده اند در حالیکه </a:t>
            </a:r>
            <a:r>
              <a:rPr b="1" lang="fa-IR" sz="3600" spc="-1" strike="noStrike">
                <a:solidFill>
                  <a:srgbClr val="ffff66"/>
                </a:solidFill>
                <a:latin typeface="Garamond"/>
                <a:cs typeface="B Zar"/>
              </a:rPr>
              <a:t>منابع دست دوم</a:t>
            </a:r>
            <a:r>
              <a:rPr b="1" lang="fa-IR" sz="3600" spc="-1" strike="noStrike">
                <a:solidFill>
                  <a:srgbClr val="ffffff"/>
                </a:solidFill>
                <a:latin typeface="Garamond"/>
                <a:ea typeface="B Zar"/>
              </a:rPr>
              <a:t> از طریق واسطه به پژوهشگر رسیده اند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006666"/>
                </a:solidFill>
                <a:latin typeface="Arial"/>
                <a:cs typeface="B Zar"/>
              </a:rPr>
              <a:t>فصل پنجم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003366"/>
                </a:solidFill>
                <a:latin typeface="Arial"/>
                <a:cs typeface="B Zar"/>
              </a:rPr>
              <a:t>پس از پایان فصل دانشجو باید: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3366"/>
                </a:solidFill>
                <a:latin typeface="Arial"/>
                <a:ea typeface="B Zar"/>
              </a:rPr>
              <a:t>1</a:t>
            </a:r>
            <a:r>
              <a:rPr b="0" lang="fa-IR" sz="2800" spc="-1" strike="noStrike">
                <a:solidFill>
                  <a:srgbClr val="003366"/>
                </a:solidFill>
                <a:latin typeface="Arial"/>
                <a:ea typeface="B Zar"/>
              </a:rPr>
              <a:t>. جامعه پژوهشی را تعریف کند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3366"/>
                </a:solidFill>
                <a:latin typeface="Arial"/>
                <a:ea typeface="B Zar"/>
              </a:rPr>
              <a:t>2</a:t>
            </a:r>
            <a:r>
              <a:rPr b="0" lang="fa-IR" sz="2800" spc="-1" strike="noStrike">
                <a:solidFill>
                  <a:srgbClr val="003366"/>
                </a:solidFill>
                <a:latin typeface="Arial"/>
                <a:ea typeface="B Zar"/>
              </a:rPr>
              <a:t>. ضمن تعریف نمونه گیری ، انواع آن را بیان کند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3366"/>
                </a:solidFill>
                <a:latin typeface="Arial"/>
                <a:ea typeface="B Zar"/>
              </a:rPr>
              <a:t>3</a:t>
            </a:r>
            <a:r>
              <a:rPr b="0" lang="fa-IR" sz="2800" spc="-1" strike="noStrike">
                <a:solidFill>
                  <a:srgbClr val="003366"/>
                </a:solidFill>
                <a:latin typeface="Arial"/>
                <a:ea typeface="B Zar"/>
              </a:rPr>
              <a:t>. روشهای بر آورد حجم نمونه را بیان کند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a-IR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0" algn="just" rtl="1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ffffff"/>
                </a:solidFill>
                <a:latin typeface="Garamond"/>
                <a:cs typeface="B Zar"/>
              </a:rPr>
              <a:t>در نقد یا اعتبار بیرونی ، سندیت مدرک یا اثر مورد ارزشیابی قرار می گیرد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indent="0" algn="just" rtl="1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ffffff"/>
                </a:solidFill>
                <a:latin typeface="Garamond"/>
                <a:cs typeface="B Zar"/>
              </a:rPr>
              <a:t>در اعتبار درونی ، انگیزه ، تمایلات و محدودیتهای صاحب منبع مورد نظر است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80880" y="6091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indent="0" algn="just" rtl="1">
              <a:lnSpc>
                <a:spcPct val="2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ffffff"/>
                </a:solidFill>
                <a:latin typeface="Arial"/>
                <a:cs typeface="B Zar"/>
              </a:rPr>
              <a:t>اولین قدم در نمونه گیری ، تعریف جامعه مورد نظر است وآن عبارت است از اینکه اعضای واقعی یا فرضی که علاقمند هستیم یافته های پژوهش را به آنها تعمیم دهیم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 rtl="1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ffffff"/>
                </a:solidFill>
                <a:latin typeface="Arial"/>
                <a:cs typeface="B Zar"/>
              </a:rPr>
              <a:t>نمونه گیری یعنی انتخاب تعدادی از افراد ،حوادث یا اشیاء از یک جامعه تعریف شده به عنوان نماینده آن جامعه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ver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r" rtl="1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ffffff"/>
                </a:solidFill>
                <a:latin typeface="Arial"/>
                <a:cs typeface="B Zar"/>
              </a:rPr>
              <a:t>مزیت انتخاب یک نمونه از یک جامعه ،جلوگیری از اتلاف وقت وصرفه جویی در منابع مالی است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sh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9" name="Content Placeholder 194565"/>
          <p:cNvGrpSpPr/>
          <p:nvPr/>
        </p:nvGrpSpPr>
        <p:grpSpPr>
          <a:xfrm>
            <a:off x="457200" y="762120"/>
            <a:ext cx="8228880" cy="4615560"/>
            <a:chOff x="457200" y="762120"/>
            <a:chExt cx="8228880" cy="4615560"/>
          </a:xfrm>
        </p:grpSpPr>
        <p:cxnSp>
          <p:nvCxnSpPr>
            <p:cNvPr id="490" name="_s1028"/>
            <p:cNvCxnSpPr>
              <a:stCxn id="491" idx="0"/>
              <a:endCxn id="492" idx="2"/>
            </p:cNvCxnSpPr>
            <p:nvPr/>
          </p:nvCxnSpPr>
          <p:spPr>
            <a:xfrm flipV="1" rot="16200000">
              <a:off x="4240440" y="3481200"/>
              <a:ext cx="420120" cy="1694520"/>
            </a:xfrm>
            <a:prstGeom prst="bentConnector3">
              <a:avLst>
                <a:gd name="adj1" fmla="val 21612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493" name="_s1029"/>
            <p:cNvCxnSpPr>
              <a:stCxn id="494" idx="0"/>
              <a:endCxn id="492" idx="2"/>
            </p:cNvCxnSpPr>
            <p:nvPr/>
          </p:nvCxnSpPr>
          <p:spPr>
            <a:xfrm flipH="1" flipV="1" rot="5400000">
              <a:off x="2546280" y="3480840"/>
              <a:ext cx="420120" cy="1695240"/>
            </a:xfrm>
            <a:prstGeom prst="bentConnector3">
              <a:avLst>
                <a:gd name="adj1" fmla="val 21612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495" name="_s1030"/>
            <p:cNvCxnSpPr>
              <a:stCxn id="492" idx="3"/>
              <a:endCxn id="496" idx="2"/>
            </p:cNvCxnSpPr>
            <p:nvPr/>
          </p:nvCxnSpPr>
          <p:spPr>
            <a:xfrm flipV="1">
              <a:off x="5055840" y="1600920"/>
              <a:ext cx="2178360" cy="20988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497" name="_s1031"/>
            <p:cNvCxnSpPr>
              <a:stCxn id="498" idx="3"/>
              <a:endCxn id="496" idx="2"/>
            </p:cNvCxnSpPr>
            <p:nvPr/>
          </p:nvCxnSpPr>
          <p:spPr>
            <a:xfrm flipV="1">
              <a:off x="5055840" y="1600560"/>
              <a:ext cx="2178360" cy="8398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496" name="_s1032"/>
            <p:cNvSpPr/>
            <p:nvPr/>
          </p:nvSpPr>
          <p:spPr>
            <a:xfrm>
              <a:off x="5781960" y="762120"/>
              <a:ext cx="2904120" cy="8391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3200" spc="-1" strike="noStrike">
                  <a:solidFill>
                    <a:srgbClr val="ffffff"/>
                  </a:solidFill>
                  <a:latin typeface="Arial"/>
                </a:rPr>
                <a:t>روشهای نمونه گیری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" name="_s1033"/>
            <p:cNvSpPr/>
            <p:nvPr/>
          </p:nvSpPr>
          <p:spPr>
            <a:xfrm>
              <a:off x="2151720" y="2020680"/>
              <a:ext cx="2904120" cy="8391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a-IR" sz="2400" spc="-1" strike="noStrike">
                  <a:solidFill>
                    <a:srgbClr val="ffffff"/>
                  </a:solidFill>
                  <a:latin typeface="Arial"/>
                </a:rPr>
                <a:t>تصادفی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2" name="_s1034"/>
            <p:cNvSpPr/>
            <p:nvPr/>
          </p:nvSpPr>
          <p:spPr>
            <a:xfrm>
              <a:off x="2151720" y="3279600"/>
              <a:ext cx="2904120" cy="8391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a-IR" sz="2400" spc="-1" strike="noStrike">
                  <a:solidFill>
                    <a:srgbClr val="ffffff"/>
                  </a:solidFill>
                  <a:latin typeface="Arial"/>
                </a:rPr>
                <a:t>غیر تصادقی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4" name="_s1035"/>
            <p:cNvSpPr/>
            <p:nvPr/>
          </p:nvSpPr>
          <p:spPr>
            <a:xfrm>
              <a:off x="457200" y="4538520"/>
              <a:ext cx="2904120" cy="8391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a-IR" sz="2400" spc="-1" strike="noStrike">
                  <a:solidFill>
                    <a:srgbClr val="ffffff"/>
                  </a:solidFill>
                  <a:latin typeface="Arial"/>
                </a:rPr>
                <a:t>داوطلبانه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1" name="_s1036"/>
            <p:cNvSpPr/>
            <p:nvPr/>
          </p:nvSpPr>
          <p:spPr>
            <a:xfrm>
              <a:off x="3845520" y="4538520"/>
              <a:ext cx="2904120" cy="8391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a-IR" sz="2400" spc="-1" strike="noStrike">
                  <a:solidFill>
                    <a:srgbClr val="ffffff"/>
                  </a:solidFill>
                  <a:latin typeface="Arial"/>
                </a:rPr>
                <a:t>در دسترس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9" name="Content Placeholder 197637"/>
          <p:cNvGrpSpPr/>
          <p:nvPr/>
        </p:nvGrpSpPr>
        <p:grpSpPr>
          <a:xfrm>
            <a:off x="457200" y="258840"/>
            <a:ext cx="8228160" cy="5806440"/>
            <a:chOff x="457200" y="258840"/>
            <a:chExt cx="8228160" cy="5806440"/>
          </a:xfrm>
        </p:grpSpPr>
        <p:cxnSp>
          <p:nvCxnSpPr>
            <p:cNvPr id="500" name="_s2052"/>
            <p:cNvCxnSpPr>
              <a:stCxn id="501" idx="3"/>
              <a:endCxn id="502" idx="2"/>
            </p:cNvCxnSpPr>
            <p:nvPr/>
          </p:nvCxnSpPr>
          <p:spPr>
            <a:xfrm flipV="1">
              <a:off x="5393880" y="1087560"/>
              <a:ext cx="823320" cy="45630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503" name="_s2053"/>
            <p:cNvCxnSpPr>
              <a:stCxn id="504" idx="3"/>
              <a:endCxn id="502" idx="2"/>
            </p:cNvCxnSpPr>
            <p:nvPr/>
          </p:nvCxnSpPr>
          <p:spPr>
            <a:xfrm flipV="1">
              <a:off x="5393880" y="1087560"/>
              <a:ext cx="823320" cy="331884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505" name="_s2054"/>
            <p:cNvCxnSpPr>
              <a:stCxn id="506" idx="3"/>
              <a:endCxn id="502" idx="2"/>
            </p:cNvCxnSpPr>
            <p:nvPr/>
          </p:nvCxnSpPr>
          <p:spPr>
            <a:xfrm flipV="1">
              <a:off x="5393880" y="1087920"/>
              <a:ext cx="823320" cy="20743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507" name="_s2055"/>
            <p:cNvCxnSpPr>
              <a:stCxn id="508" idx="3"/>
              <a:endCxn id="502" idx="2"/>
            </p:cNvCxnSpPr>
            <p:nvPr/>
          </p:nvCxnSpPr>
          <p:spPr>
            <a:xfrm flipV="1">
              <a:off x="5393880" y="1087920"/>
              <a:ext cx="823320" cy="8301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502" name="_s2056"/>
            <p:cNvSpPr/>
            <p:nvPr/>
          </p:nvSpPr>
          <p:spPr>
            <a:xfrm>
              <a:off x="3748320" y="258840"/>
              <a:ext cx="4937040" cy="82944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3600" spc="-1" strike="noStrike">
                  <a:solidFill>
                    <a:srgbClr val="ffffff"/>
                  </a:solidFill>
                  <a:latin typeface="Arial"/>
                </a:rPr>
                <a:t>انواع نمونه گیری تصادفی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8" name="_s2057"/>
            <p:cNvSpPr/>
            <p:nvPr/>
          </p:nvSpPr>
          <p:spPr>
            <a:xfrm>
              <a:off x="457200" y="1503000"/>
              <a:ext cx="4937040" cy="82944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a-IR" sz="2400" spc="-1" strike="noStrike">
                  <a:solidFill>
                    <a:srgbClr val="ffffff"/>
                  </a:solidFill>
                  <a:latin typeface="Arial"/>
                </a:rPr>
                <a:t>تصادفی ساده</a:t>
              </a:r>
              <a:r>
                <a:rPr b="0" lang="fa-IR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6" name="_s2058"/>
            <p:cNvSpPr/>
            <p:nvPr/>
          </p:nvSpPr>
          <p:spPr>
            <a:xfrm>
              <a:off x="457200" y="2747160"/>
              <a:ext cx="4937040" cy="82944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a-IR" sz="2400" spc="-1" strike="noStrike">
                  <a:solidFill>
                    <a:srgbClr val="ffffff"/>
                  </a:solidFill>
                  <a:latin typeface="Arial"/>
                </a:rPr>
                <a:t>تصادفی منظم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4" name="_s2059"/>
            <p:cNvSpPr/>
            <p:nvPr/>
          </p:nvSpPr>
          <p:spPr>
            <a:xfrm>
              <a:off x="457200" y="3991680"/>
              <a:ext cx="4937040" cy="82944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a-IR" sz="2400" spc="-1" strike="noStrike">
                  <a:solidFill>
                    <a:srgbClr val="ffffff"/>
                  </a:solidFill>
                  <a:latin typeface="Arial"/>
                </a:rPr>
                <a:t>طبقه ای</a:t>
              </a:r>
              <a:r>
                <a:rPr b="0" lang="fa-IR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1" name="_s2060"/>
            <p:cNvSpPr/>
            <p:nvPr/>
          </p:nvSpPr>
          <p:spPr>
            <a:xfrm>
              <a:off x="457200" y="5235840"/>
              <a:ext cx="4937040" cy="82944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a-IR" sz="2400" spc="-1" strike="noStrike">
                  <a:solidFill>
                    <a:srgbClr val="ffffff"/>
                  </a:solidFill>
                  <a:latin typeface="Arial"/>
                </a:rPr>
                <a:t>خوشه ای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>
    <p:push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ffffff"/>
                </a:solidFill>
                <a:latin typeface="Arial"/>
                <a:cs typeface="B Zar"/>
              </a:rPr>
              <a:t>خطای نمونه گیری تابع اندازه حجم نمونه است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e3e3ff"/>
                </a:solidFill>
                <a:latin typeface="Arial"/>
                <a:cs typeface="B Zar"/>
              </a:rPr>
              <a:t>در شرایط زیر بایستی نمونه را بزرگ انتخاب کرد: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Arial"/>
                <a:ea typeface="B Zar"/>
              </a:rPr>
              <a:t>1</a:t>
            </a:r>
            <a:r>
              <a:rPr b="0" lang="fa-IR" sz="3200" spc="-1" strike="noStrike">
                <a:solidFill>
                  <a:srgbClr val="ffffff"/>
                </a:solidFill>
                <a:latin typeface="Arial"/>
                <a:ea typeface="B Zar"/>
              </a:rPr>
              <a:t>. وجود متغیرهای کنترل نشده زیاد در تحقی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Arial"/>
                <a:ea typeface="B Zar"/>
              </a:rPr>
              <a:t>2</a:t>
            </a:r>
            <a:r>
              <a:rPr b="0" lang="fa-IR" sz="3200" spc="-1" strike="noStrike">
                <a:solidFill>
                  <a:srgbClr val="ffffff"/>
                </a:solidFill>
                <a:latin typeface="Arial"/>
                <a:ea typeface="B Zar"/>
              </a:rPr>
              <a:t>. پیش بینی تفاوت یا همبستگی پایین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Arial"/>
                <a:ea typeface="B Zar"/>
              </a:rPr>
              <a:t>3</a:t>
            </a:r>
            <a:r>
              <a:rPr b="0" lang="fa-IR" sz="3200" spc="-1" strike="noStrike">
                <a:solidFill>
                  <a:srgbClr val="ffffff"/>
                </a:solidFill>
                <a:latin typeface="Arial"/>
                <a:ea typeface="B Zar"/>
              </a:rPr>
              <a:t>. تقسیم گروه نمونه به زیرگروههای فرع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Arial"/>
                <a:ea typeface="B Zar"/>
              </a:rPr>
              <a:t>4</a:t>
            </a:r>
            <a:r>
              <a:rPr b="0" lang="fa-IR" sz="3200" spc="-1" strike="noStrike">
                <a:solidFill>
                  <a:srgbClr val="ffffff"/>
                </a:solidFill>
                <a:latin typeface="Arial"/>
                <a:ea typeface="B Zar"/>
              </a:rPr>
              <a:t>. نامتجانس بودن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Arial"/>
                <a:ea typeface="B Zar"/>
              </a:rPr>
              <a:t>5</a:t>
            </a:r>
            <a:r>
              <a:rPr b="0" lang="fa-IR" sz="3200" spc="-1" strike="noStrike">
                <a:solidFill>
                  <a:srgbClr val="ffffff"/>
                </a:solidFill>
                <a:latin typeface="Arial"/>
                <a:ea typeface="B Zar"/>
              </a:rPr>
              <a:t>. عدم وجودوسیله پایا برای اندازه گیری متغیروابست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2T20:18:51Z</dcterms:created>
  <dc:creator>Your User Name</dc:creator>
  <dc:description/>
  <dc:language>en-US</dc:language>
  <cp:lastModifiedBy>Aramesh</cp:lastModifiedBy>
  <dcterms:modified xsi:type="dcterms:W3CDTF">2020-04-18T10:53:59Z</dcterms:modified>
  <cp:revision>3</cp:revision>
  <dc:subject/>
  <dc:title>نام درس مقدمات روش تحقیق درعلوم تربیتی  تعداد واحد درسی 3واحد  نام منبع  روش تحقیق درروان شناسی وعلوم تربیتی  مولف دکترعلی دلاور  تهیه کننده اسلاید عباس میربلوک بزرگی-عضو هیئت علمی مرکز تالش-منطقه یک</dc:title>
</cp:coreProperties>
</file>