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0B1-35B2-4D6F-9B34-5092B379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2B4-A688-498C-A7D2-E3484EA3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D40D1-5BD9-4A03-8AA7-BC9220BF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3A4DC-E2FA-4F74-BC4C-E673876E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99FA5-A6DA-413A-9988-BAD266E8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99224-BF77-4CF4-8C6D-DD9662B6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6BF22-18EE-4060-9E34-C2AC96CF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901B9-4522-4D1F-826F-6F97F57F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CC379-5ECD-46F1-8B46-37C1C9D6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7E207-0A42-4D60-A861-6584E03D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3DC9F-5A23-40DE-ADBE-6FB9808E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F9B0F-9F27-41F7-8833-CC3A95A4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8CCF-B56B-4C98-BA50-EAD50448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F28DA-BE10-4170-9EFC-7B1D70B4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98029-F424-4ACC-8343-8369E319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130B0-1BE4-44FD-B8E9-80E0D2F6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72743-F340-43FE-91F2-A2E4D61C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9DEA8-0710-4873-9C39-04EEDABD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C0133-80E8-4588-8A45-9291AF31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817CA-99B3-4776-9F0B-F3F2E7B9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38ACA-62BF-4036-84A5-C0970A45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DCD2D-D546-42D6-A470-C6E4AEFA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CEF20-B103-485A-8B44-CFDBA8AA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A91-BEE8-4D75-935E-EA303057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3007F-1583-444B-A84F-C91ADAD0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32F9-228C-4690-A057-18F620F0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C389-D1BA-4714-A699-60A8370E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7AD0-5C10-4DFD-AAD9-07FE5F4F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EDB3-71C0-4205-A330-C5ED3849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62DA-1F8B-4722-82F5-B6925114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D116-39F7-439B-A862-98C549D2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3D0E-DBA0-4E01-AE84-A66553A8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E3B-5475-4739-A637-EC930720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82CF-1497-45E2-98D2-DE2EAC62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9302-0281-4DCB-97AB-2D54FCB3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ACEE-E6E3-4DB4-B683-8F382ACF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B186-A8B0-4321-8504-DFD3E376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7932-171E-4B48-9222-58B9A6C2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FAD19-4C09-4C7F-B7F7-7E025145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03743-678F-49BA-893C-62BE45A9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C85E0-7856-4D88-B637-B585236E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4C483-2711-4E69-A8FE-CC830211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434CE-2AA6-425E-BEE1-E419E679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E85-749E-4664-86B1-A567DFA4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0C4A1-320E-40B0-9CE2-AB533B9A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5C87D-90CD-4340-850C-3F53D139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6D5D4-F520-4D7F-9E34-F294A654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2CF37-1830-4136-B8A5-B31AEAA3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7CE87-324C-4FA9-811D-D696954A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75877-7A5C-4771-A180-4158A8F0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F386B-0ABB-4901-949C-85F6091D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A7955-4F2B-4703-980A-D9908002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7D1BF-7D6B-45EE-9F8A-1BAB8A9D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3EFF6-2950-4329-BA75-BD2FFEE8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32B-6EF1-40A8-8EBF-B307DEC6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6B8FE-AF9F-4FC1-B16F-8FD239C5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D3AAB-50AF-4654-B912-910BCED5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91EA3-14C8-46DE-BBD0-0868337F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E15EC-E9D9-4795-9E1A-C02EB183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ACF2C-83D1-4F20-ABFE-D22DD540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00FF4-BF25-4E87-9914-863B9A66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2FD51-17EA-4E93-A24C-CB6C6527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D53A9-C0A4-402E-B5A7-AA8069FF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76601-9050-4EFA-B442-7E1EBEC6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D0401-BAFA-4C8E-AA20-28F757EB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978-11B7-4402-AB06-D500168C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1F8AF-A392-45A6-B382-144E25A1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F169C-E1CE-402B-9A23-DF20D48B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C5914-3E2D-4704-8D03-B0559E71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CB0C7-93D9-4E02-B532-2CCC2362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1CBAD-C3A2-474B-A77E-07B8E860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3EF50-8566-46E7-9768-91FAC799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85647-D77C-49DD-9AF7-31DDF3C8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3B951-4C87-4914-A698-3301A9E9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972E2-663E-49F6-BEA8-7B4A932B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DC915-DC9F-4623-B175-785FA8A1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3F34-83F8-4E01-8509-EFB089FA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AAC88-313A-4838-982B-DBAFADFB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B143A0-A527-41CE-9A9C-E9FC5728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86AA8-8B99-46EF-B719-3390A1A1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055208-AEB5-4C01-AFC3-05BA1609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F7B051-8FD5-4658-8D0E-BFF1CF78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5C7816-D882-4EFA-93DE-075075BB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4382F0-3F81-4831-9E66-30DD155B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14CE36-A6D2-4C20-BD3A-115B5360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FF5759-2112-4E3C-B408-21B83A11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6C1C0-8933-4228-AAC2-E4024A03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6D4-220D-473A-8D0F-3E64E868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A75887-1BDB-4148-9E83-D6BCC2DD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5493A8-C4B2-4704-8CB6-047752F1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207E84-40AA-470B-9DCB-EF4EEC98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A354A-9815-4195-A17A-3DB01EF2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3959B-E8F0-496F-9747-BA1A342B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89CFF-5980-4D15-9477-01243F0E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BD7C7-6330-46D3-94E4-3E6B3CA7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E9245-06DB-4053-B93A-6B202869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5E7F9-64DF-4BAD-8809-1DA1335D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5FDB1-755B-4EB9-A7E7-556E4518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D60-6566-4797-A5B8-5F9286C9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647CE-14B8-4E89-8E0D-420E5E49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B873C-F461-42D0-A4CF-6FA6E981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4A3B8-5994-45D2-BCC4-1DEE4F7F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85591-71AE-4923-BBE0-5E7476AC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0B623-B93A-49BA-867D-81685697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A3CEF-EF8A-4367-8D8C-8008D02E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08466-219A-47B6-8C97-DA4950A4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1CAA5-355C-4616-9C1C-C4E0CFBB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53A32-9FB9-4834-9D7B-31FC064C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95CC6-95E1-4DFA-9DE3-AEF31C6A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A8E-18C5-45C3-8C50-87768189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75FA4-0C8A-4163-90C5-C0DF2373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F47D8-90F9-4983-81B9-0B6B38F6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CBBDE-73CA-4567-A90D-6D673D2A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116D5-6538-40FD-863E-CB064CCC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EF9D6-3C08-41C4-AA61-1F79DDFB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1D79F-9B80-45DE-B53C-2AEB05D9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E7670-8CAA-4CC2-9A9B-14F475A2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7A146-B573-4117-84E8-336642F0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D176F-D7B5-4EA0-9896-6484B297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F89F8-F6ED-483B-9162-48304BA8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3519-0FAC-4A0D-AD2B-97C5FE7EA0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12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13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14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15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16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17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8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D1E6-5AA3-4783-BC29-F401677334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E1C0-974F-4A3E-B543-5E29A35C69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5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6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7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8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  <p:grpSp>
          <p:nvGrpSpPr>
            <p:cNvPr id="99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0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1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2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3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4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5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6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7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8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09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0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1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2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3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4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5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6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7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8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19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0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1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2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3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4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5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6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7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8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29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0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1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2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3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4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5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6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7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8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39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0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1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2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3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4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5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6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7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8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49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0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1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2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3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4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5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6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7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8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59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0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1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2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3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4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5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6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7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8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69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0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1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2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3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4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5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6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7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8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79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0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1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2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3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4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5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6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7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8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89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0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1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2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3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4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5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6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7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8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199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0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1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2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3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4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5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6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7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8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09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0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1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2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3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4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5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6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7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8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19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0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1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2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3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4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5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6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7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8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29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30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31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32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33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34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F9A8-A1CF-496F-AA49-ABE8D72991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7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grpSp>
          <p:nvGrpSpPr>
            <p:cNvPr id="27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7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8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29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0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0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0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0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grpSp>
            <p:nvGrpSpPr>
              <p:cNvPr id="30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0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0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0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0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0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1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2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2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2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2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2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2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2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2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3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3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33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3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3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3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3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3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3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34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5002-7EF4-46B2-9353-98896D8A0A5F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8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8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8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8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8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3E6A-BCB3-414C-962E-BE9623DDEA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5C7B-8EE3-4F49-9C73-98B23E3D53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B311-EEBD-4A01-815F-553752D8E7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1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1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1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1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1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1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  <p:grpSp>
          <p:nvGrpSpPr>
            <p:cNvPr id="52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2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3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4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5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6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7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8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9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0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1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2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3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4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5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6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6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6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66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7DFE-7FFB-45CA-A179-1BF7C93E40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06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grpSp>
          <p:nvGrpSpPr>
            <p:cNvPr id="70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08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09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0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1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2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3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4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5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6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7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8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19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0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1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2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3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4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5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6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7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8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29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30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31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32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grpSp>
            <p:nvGrpSpPr>
              <p:cNvPr id="73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3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3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3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3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3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3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4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4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5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5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5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5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5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5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5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5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5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5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6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  <p:sp>
              <p:nvSpPr>
                <p:cNvPr id="76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2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63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64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65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6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6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6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76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25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26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9D7F-1052-4BF1-97D2-801A5C44C1A8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2193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بسم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ea typeface="IPT.Yagut"/>
              </a:rPr>
              <a:t>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الله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ea typeface="IPT.Yagut"/>
              </a:rPr>
              <a:t>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الرحمن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ea typeface="IPT.Yagut"/>
              </a:rPr>
              <a:t>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الرحیم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Rectangle 4"/>
          <p:cNvSpPr/>
          <p:nvPr/>
        </p:nvSpPr>
        <p:spPr>
          <a:xfrm>
            <a:off x="0" y="46483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99ff"/>
                </a:solidFill>
                <a:latin typeface="Tahoma"/>
              </a:rPr>
              <a:t>روشها: تعیین چگونگی انجام هر یک از مراحل رویه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95" name="Rectangle 5"/>
          <p:cNvSpPr/>
          <p:nvPr/>
        </p:nvSpPr>
        <p:spPr>
          <a:xfrm>
            <a:off x="0" y="320040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رویه ها: تعیین مراحل یا گام های متوالی پیوسته برای انجام یک وظیفه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0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Rectangle 4"/>
          <p:cNvSpPr/>
          <p:nvPr/>
        </p:nvSpPr>
        <p:spPr>
          <a:xfrm>
            <a:off x="0" y="46483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9933"/>
                </a:solidFill>
                <a:latin typeface="Tahoma"/>
              </a:rPr>
              <a:t>خط مشی ها: 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رهنمودهای کلی مبهمی هستند که در چهارچوب آنها مدیران می توانند از قضاوت شخصی نیز استفاده کن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99" name="Rectangle 5"/>
          <p:cNvSpPr/>
          <p:nvPr/>
        </p:nvSpPr>
        <p:spPr>
          <a:xfrm>
            <a:off x="0" y="320040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1" lang="fa-IR" sz="3200" spc="-1" strike="noStrike">
                <a:solidFill>
                  <a:srgbClr val="3399ff"/>
                </a:solidFill>
                <a:latin typeface="Tahoma"/>
              </a:rPr>
              <a:t>مقررات: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احکام صریحی که بیان می کنند شخص چه باید بکند یا نباید بک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Rectangle 4"/>
          <p:cNvSpPr/>
          <p:nvPr/>
        </p:nvSpPr>
        <p:spPr>
          <a:xfrm>
            <a:off x="0" y="32004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با توجه به قابلیت پیش بینی نتایج ، شرایط به سه دسته قابل تقسیم است: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الف: اطمینان قطع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ب: ریسک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ج: عدم اطمینان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03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Tahoma"/>
              </a:rPr>
              <a:t>« شرایط تصمیم گیر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4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6" name="Rectangle 4"/>
          <p:cNvSpPr/>
          <p:nvPr/>
        </p:nvSpPr>
        <p:spPr>
          <a:xfrm>
            <a:off x="0" y="380988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9933"/>
                </a:solidFill>
                <a:latin typeface="Tahoma"/>
              </a:rPr>
              <a:t>- برنامه ریزی عبارت است از فراگرد تعیین اهداف سازمان و تدارک دقیق و پیشاپیش اقدامات و وسایلی که تحقق اهداف را میسر می ساز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0" y="2590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تعیین اهداف و برنامه ریز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9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0" name="Rectangle 4"/>
          <p:cNvSpPr/>
          <p:nvPr/>
        </p:nvSpPr>
        <p:spPr>
          <a:xfrm>
            <a:off x="0" y="365760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- هدف گذار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- پیش نگر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- بودجه بند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- تعیین خط مشی  و روشها و ملاک های عملیات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0" y="2590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فراگرد برنامه ریز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4" name="Rectangle 4"/>
          <p:cNvSpPr/>
          <p:nvPr/>
        </p:nvSpPr>
        <p:spPr>
          <a:xfrm>
            <a:off x="6799680" y="487692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9933"/>
                </a:solidFill>
                <a:latin typeface="Tahoma"/>
              </a:rPr>
              <a:t>انواع هدف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5" name="Rectangle 5"/>
          <p:cNvSpPr/>
          <p:nvPr/>
        </p:nvSpPr>
        <p:spPr>
          <a:xfrm>
            <a:off x="3276720" y="4343400"/>
            <a:ext cx="236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99"/>
                </a:solidFill>
                <a:latin typeface="Tahoma"/>
              </a:rPr>
              <a:t>گروهی و سازمانی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6" name="Rectangle 6"/>
          <p:cNvSpPr/>
          <p:nvPr/>
        </p:nvSpPr>
        <p:spPr>
          <a:xfrm>
            <a:off x="3886200" y="5410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99"/>
                </a:solidFill>
                <a:latin typeface="Tahoma"/>
              </a:rPr>
              <a:t>لفظی و واقعی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7" name="Line 7"/>
          <p:cNvSpPr/>
          <p:nvPr/>
        </p:nvSpPr>
        <p:spPr>
          <a:xfrm>
            <a:off x="5791320" y="4648320"/>
            <a:ext cx="1295280" cy="5331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8" name="Line 8"/>
          <p:cNvSpPr/>
          <p:nvPr/>
        </p:nvSpPr>
        <p:spPr>
          <a:xfrm flipV="1">
            <a:off x="5791320" y="5181480"/>
            <a:ext cx="1295280" cy="457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9" name="Rectangle 9"/>
          <p:cNvSpPr/>
          <p:nvPr/>
        </p:nvSpPr>
        <p:spPr>
          <a:xfrm>
            <a:off x="304920" y="2286000"/>
            <a:ext cx="8839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اهداف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20" name="Rectangle 10"/>
          <p:cNvSpPr/>
          <p:nvPr/>
        </p:nvSpPr>
        <p:spPr>
          <a:xfrm>
            <a:off x="0" y="3124080"/>
            <a:ext cx="8839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6600"/>
                </a:solidFill>
                <a:latin typeface="Arial"/>
              </a:rPr>
              <a:t>مدیریت وسیله ای است برای نیل به هدف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8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65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150"/>
                            </p:stCondLst>
                            <p:childTnLst>
                              <p:par>
                                <p:cTn id="3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15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7650"/>
                            </p:stCondLst>
                            <p:childTnLst>
                              <p:par>
                                <p:cTn id="3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650"/>
                            </p:stCondLst>
                            <p:childTnLst>
                              <p:par>
                                <p:cTn id="3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3" name="Rectangle 4"/>
          <p:cNvSpPr/>
          <p:nvPr/>
        </p:nvSpPr>
        <p:spPr>
          <a:xfrm>
            <a:off x="0" y="365760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- اهداف باید سنجش پذیر باش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- هدف ها باید تحقق پذیر باش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- اهداف باید پذیرفتنی باش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24" name="Rectangle 5"/>
          <p:cNvSpPr/>
          <p:nvPr/>
        </p:nvSpPr>
        <p:spPr>
          <a:xfrm>
            <a:off x="0" y="2590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3600" spc="-1" strike="noStrike">
                <a:solidFill>
                  <a:srgbClr val="ff9933"/>
                </a:solidFill>
                <a:latin typeface="Arial"/>
              </a:rPr>
              <a:t>ملاک های عمده تعیین اهداف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7" name="Rectangle 4"/>
          <p:cNvSpPr/>
          <p:nvPr/>
        </p:nvSpPr>
        <p:spPr>
          <a:xfrm>
            <a:off x="0" y="281952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- اهداف باید با هم همخوانی و توافق داشته باش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- در تعیین اهداف باید به « </a:t>
            </a:r>
            <a:r>
              <a:rPr b="1" lang="fa-IR" sz="3200" spc="-1" strike="noStrike">
                <a:solidFill>
                  <a:srgbClr val="eaeaea"/>
                </a:solidFill>
                <a:latin typeface="Tahoma"/>
              </a:rPr>
              <a:t>هزینه فرصت از دست رفته </a:t>
            </a:r>
            <a:r>
              <a:rPr b="1" lang="fa-IR" sz="3200" spc="-1" strike="noStrike">
                <a:solidFill>
                  <a:srgbClr val="ffff00"/>
                </a:solidFill>
                <a:latin typeface="Tahoma"/>
              </a:rPr>
              <a:t>» یا عدم النفع توجه داشت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8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0" name="Rectangle 4"/>
          <p:cNvSpPr/>
          <p:nvPr/>
        </p:nvSpPr>
        <p:spPr>
          <a:xfrm>
            <a:off x="0" y="36576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ecff"/>
                </a:solidFill>
                <a:latin typeface="Tahoma"/>
              </a:rPr>
              <a:t>پیش نگری عبارت است از فراگرد استفاده از اطلاعات گذشته و حال برای تخمین شرایط و رویدادهای آینده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1" name="Rectangle 5"/>
          <p:cNvSpPr/>
          <p:nvPr/>
        </p:nvSpPr>
        <p:spPr>
          <a:xfrm>
            <a:off x="0" y="2590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پیش نگر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4" name="Rectangle 4"/>
          <p:cNvSpPr/>
          <p:nvPr/>
        </p:nvSpPr>
        <p:spPr>
          <a:xfrm>
            <a:off x="5258880" y="365760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cc66"/>
                </a:solidFill>
                <a:latin typeface="Tahoma"/>
              </a:rPr>
              <a:t>روشهای پیش نگر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5" name="Rectangle 5"/>
          <p:cNvSpPr/>
          <p:nvPr/>
        </p:nvSpPr>
        <p:spPr>
          <a:xfrm>
            <a:off x="2057400" y="312408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66ff99"/>
                </a:solidFill>
                <a:latin typeface="Tahoma"/>
              </a:rPr>
              <a:t>ساده - تخصصی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6" name="Rectangle 6"/>
          <p:cNvSpPr/>
          <p:nvPr/>
        </p:nvSpPr>
        <p:spPr>
          <a:xfrm>
            <a:off x="1905120" y="411480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66ff99"/>
                </a:solidFill>
                <a:latin typeface="Tahoma"/>
              </a:rPr>
              <a:t>ساده ترین روش حدس و گمان است.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7" name="Line 7"/>
          <p:cNvSpPr/>
          <p:nvPr/>
        </p:nvSpPr>
        <p:spPr>
          <a:xfrm>
            <a:off x="4495680" y="3429000"/>
            <a:ext cx="1295640" cy="533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8" name="Line 8"/>
          <p:cNvSpPr/>
          <p:nvPr/>
        </p:nvSpPr>
        <p:spPr>
          <a:xfrm flipV="1">
            <a:off x="4495680" y="3962520"/>
            <a:ext cx="1295640" cy="457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9" name="Rectangle 9"/>
          <p:cNvSpPr/>
          <p:nvPr/>
        </p:nvSpPr>
        <p:spPr>
          <a:xfrm>
            <a:off x="304920" y="2209680"/>
            <a:ext cx="8839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روشها و فنون پیش نگر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0" name="Rectangle 10"/>
          <p:cNvSpPr/>
          <p:nvPr/>
        </p:nvSpPr>
        <p:spPr>
          <a:xfrm>
            <a:off x="0" y="5410080"/>
            <a:ext cx="8839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6600"/>
                </a:solidFill>
                <a:latin typeface="Arial"/>
              </a:rPr>
              <a:t>پیچیده: </a:t>
            </a:r>
            <a:r>
              <a:rPr b="1" lang="fa-IR" sz="3200" spc="-1" strike="noStrike">
                <a:solidFill>
                  <a:srgbClr val="ff9933"/>
                </a:solidFill>
                <a:latin typeface="Arial"/>
              </a:rPr>
              <a:t>روشهای ریاضی </a:t>
            </a:r>
            <a:r>
              <a:rPr b="1" lang="ar-SA" sz="3200" spc="-1" strike="noStrike">
                <a:solidFill>
                  <a:srgbClr val="ff9933"/>
                </a:solidFill>
                <a:latin typeface="Arial"/>
              </a:rPr>
              <a:t>–</a:t>
            </a:r>
            <a:r>
              <a:rPr b="1" lang="fa-IR" sz="3200" spc="-1" strike="noStrike">
                <a:solidFill>
                  <a:srgbClr val="ff9933"/>
                </a:solidFill>
                <a:latin typeface="Arial"/>
              </a:rPr>
              <a:t> مدل های اقتصاد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4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800"/>
                            </p:stCondLst>
                            <p:childTnLst>
                              <p:par>
                                <p:cTn id="4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300"/>
                            </p:stCondLst>
                            <p:childTnLst>
                              <p:par>
                                <p:cTn id="4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5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6300"/>
                            </p:stCondLst>
                            <p:childTnLst>
                              <p:par>
                                <p:cTn id="4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800"/>
                            </p:stCondLst>
                            <p:childTnLst>
                              <p:par>
                                <p:cTn id="4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4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8800"/>
                            </p:stCondLst>
                            <p:childTnLst>
                              <p:par>
                                <p:cTn id="4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93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943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نام درس: مدیریت آمزشگاهی</a:t>
            </a:r>
            <a:br>
              <a:rPr sz="4800"/>
            </a:b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نام کتاب:مقدمات مدیریت آموزشی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Verdana"/>
              </a:rPr>
              <a:t>         </a:t>
            </a: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نام مؤلف:دکتر علی علاقه بند</a:t>
            </a:r>
            <a:br>
              <a:rPr sz="4800"/>
            </a:b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مدرس: یگانه</a:t>
            </a: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تعداد واحد: </a:t>
            </a: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3" name="Rectangle 4"/>
          <p:cNvSpPr/>
          <p:nvPr/>
        </p:nvSpPr>
        <p:spPr>
          <a:xfrm>
            <a:off x="0" y="365760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بودجه بندی مترادف برنامه ریزی نیست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بودجه بندی یعنی تعیین اینکه چه مقدار از کل منابع سازمان به اهداف خاص اختصاص یافته است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4" name="Rectangle 5"/>
          <p:cNvSpPr/>
          <p:nvPr/>
        </p:nvSpPr>
        <p:spPr>
          <a:xfrm>
            <a:off x="0" y="2590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بودجه بند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866920" y="1598760"/>
            <a:ext cx="281484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7" name="AutoShape 4"/>
          <p:cNvSpPr/>
          <p:nvPr/>
        </p:nvSpPr>
        <p:spPr>
          <a:xfrm>
            <a:off x="6019920" y="4114800"/>
            <a:ext cx="1904760" cy="990720"/>
          </a:xfrm>
          <a:prstGeom prst="flowChartPreparation">
            <a:avLst/>
          </a:prstGeom>
          <a:solidFill>
            <a:srgbClr val="eaeaea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00"/>
                </a:solidFill>
                <a:latin typeface="Tahoma"/>
              </a:rPr>
              <a:t>موقت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8" name="AutoShape 5"/>
          <p:cNvSpPr/>
          <p:nvPr/>
        </p:nvSpPr>
        <p:spPr>
          <a:xfrm>
            <a:off x="3581280" y="2666880"/>
            <a:ext cx="1905120" cy="838440"/>
          </a:xfrm>
          <a:prstGeom prst="flowChartPreparation">
            <a:avLst/>
          </a:prstGeom>
          <a:solidFill>
            <a:srgbClr val="eaeaea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00"/>
                </a:solidFill>
                <a:latin typeface="Tahoma"/>
              </a:rPr>
              <a:t>کوتاه مدت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9" name="AutoShape 6"/>
          <p:cNvSpPr/>
          <p:nvPr/>
        </p:nvSpPr>
        <p:spPr>
          <a:xfrm>
            <a:off x="6019920" y="2666880"/>
            <a:ext cx="1904760" cy="914400"/>
          </a:xfrm>
          <a:prstGeom prst="flowChartPreparation">
            <a:avLst/>
          </a:prstGeom>
          <a:solidFill>
            <a:srgbClr val="eaeaea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00"/>
                </a:solidFill>
                <a:latin typeface="Tahoma"/>
              </a:rPr>
              <a:t>ثابت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50" name="AutoShape 7"/>
          <p:cNvSpPr/>
          <p:nvPr/>
        </p:nvSpPr>
        <p:spPr>
          <a:xfrm>
            <a:off x="990720" y="2590920"/>
            <a:ext cx="1904760" cy="914400"/>
          </a:xfrm>
          <a:prstGeom prst="flowChartPreparation">
            <a:avLst/>
          </a:prstGeom>
          <a:solidFill>
            <a:srgbClr val="eaeaea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00"/>
                </a:solidFill>
                <a:latin typeface="Tahoma"/>
              </a:rPr>
              <a:t>راهبردی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51" name="AutoShape 10"/>
          <p:cNvSpPr/>
          <p:nvPr/>
        </p:nvSpPr>
        <p:spPr>
          <a:xfrm>
            <a:off x="3581280" y="4114800"/>
            <a:ext cx="1905120" cy="914400"/>
          </a:xfrm>
          <a:prstGeom prst="flowChartPreparation">
            <a:avLst/>
          </a:prstGeom>
          <a:solidFill>
            <a:srgbClr val="eaeaea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00"/>
                </a:solidFill>
                <a:latin typeface="Tahoma"/>
              </a:rPr>
              <a:t>میان مدت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52" name="AutoShape 11"/>
          <p:cNvSpPr/>
          <p:nvPr/>
        </p:nvSpPr>
        <p:spPr>
          <a:xfrm>
            <a:off x="990720" y="4114800"/>
            <a:ext cx="1904760" cy="914400"/>
          </a:xfrm>
          <a:prstGeom prst="flowChartPreparation">
            <a:avLst/>
          </a:prstGeom>
          <a:solidFill>
            <a:srgbClr val="eaeaea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00"/>
                </a:solidFill>
                <a:latin typeface="Tahoma"/>
              </a:rPr>
              <a:t>عملیاتی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53" name="AutoShape 12"/>
          <p:cNvSpPr/>
          <p:nvPr/>
        </p:nvSpPr>
        <p:spPr>
          <a:xfrm>
            <a:off x="3581280" y="5486400"/>
            <a:ext cx="1905120" cy="914400"/>
          </a:xfrm>
          <a:prstGeom prst="flowChartPreparation">
            <a:avLst/>
          </a:prstGeom>
          <a:solidFill>
            <a:srgbClr val="eaeaea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00"/>
                </a:solidFill>
                <a:latin typeface="Tahoma"/>
              </a:rPr>
              <a:t>دراز مدت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54" name="Rectangle 13"/>
          <p:cNvSpPr/>
          <p:nvPr/>
        </p:nvSpPr>
        <p:spPr>
          <a:xfrm>
            <a:off x="2438280" y="1828800"/>
            <a:ext cx="342432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cc99"/>
                </a:solidFill>
                <a:latin typeface="Arial"/>
              </a:rPr>
              <a:t>«انواع برنامه ها» 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cover dir="r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10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700"/>
                            </p:stCondLst>
                            <p:childTnLst>
                              <p:par>
                                <p:cTn id="5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7600"/>
                            </p:stCondLst>
                            <p:childTnLst>
                              <p:par>
                                <p:cTn id="5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8900"/>
                            </p:stCondLst>
                            <p:childTnLst>
                              <p:par>
                                <p:cTn id="5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2100"/>
                            </p:stCondLst>
                            <p:childTnLst>
                              <p:par>
                                <p:cTn id="5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9900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7" name="Rectangle 4"/>
          <p:cNvSpPr/>
          <p:nvPr/>
        </p:nvSpPr>
        <p:spPr>
          <a:xfrm>
            <a:off x="0" y="36576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99ff"/>
                </a:solidFill>
                <a:latin typeface="Tahoma"/>
              </a:rPr>
              <a:t>- برنامه ریزی مؤثر ، کنترل را امکان پذیر می ک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99ff"/>
                </a:solidFill>
                <a:latin typeface="Tahoma"/>
              </a:rPr>
              <a:t>- برنامه ها را هدایت و رهبری می کند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99ff"/>
                </a:solidFill>
                <a:latin typeface="Tahoma"/>
              </a:rPr>
              <a:t>- میزان بلاتکلیفی را کاهش می ده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اهمیت برنامه ریز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0" fill="hold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0" fill="hold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5" descr="SuperStock_143-322B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960" name="WordArt 6"/>
          <p:cNvSpPr txBox="1"/>
          <p:nvPr/>
        </p:nvSpPr>
        <p:spPr>
          <a:xfrm>
            <a:off x="3505320" y="1828800"/>
            <a:ext cx="22096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پایان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3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Rectangle 4"/>
          <p:cNvSpPr/>
          <p:nvPr/>
        </p:nvSpPr>
        <p:spPr>
          <a:xfrm>
            <a:off x="3186360" y="4876920"/>
            <a:ext cx="65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66ff99"/>
                </a:solidFill>
                <a:latin typeface="Tahoma"/>
              </a:rPr>
              <a:t>دو مفهوم اساسی در این تعریف: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64" name="Rectangle 5"/>
          <p:cNvSpPr/>
          <p:nvPr/>
        </p:nvSpPr>
        <p:spPr>
          <a:xfrm>
            <a:off x="609480" y="41911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b7b6a3"/>
                </a:solidFill>
                <a:latin typeface="Tahoma"/>
              </a:rPr>
              <a:t> </a:t>
            </a:r>
            <a:r>
              <a:rPr b="1" lang="fa-IR" sz="2800" spc="-1" strike="noStrike">
                <a:solidFill>
                  <a:srgbClr val="ccffff"/>
                </a:solidFill>
                <a:latin typeface="Tahoma"/>
              </a:rPr>
              <a:t>گزینش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65" name="Rectangle 6"/>
          <p:cNvSpPr/>
          <p:nvPr/>
        </p:nvSpPr>
        <p:spPr>
          <a:xfrm>
            <a:off x="1219320" y="5410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ffff"/>
                </a:solidFill>
                <a:latin typeface="Tahoma"/>
              </a:rPr>
              <a:t>حل مسأله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66" name="Line 7"/>
          <p:cNvSpPr/>
          <p:nvPr/>
        </p:nvSpPr>
        <p:spPr>
          <a:xfrm>
            <a:off x="2895480" y="4724280"/>
            <a:ext cx="1295640" cy="533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67" name="Line 8"/>
          <p:cNvSpPr/>
          <p:nvPr/>
        </p:nvSpPr>
        <p:spPr>
          <a:xfrm flipV="1">
            <a:off x="2895480" y="5257800"/>
            <a:ext cx="1295640" cy="457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68" name="Rectangle 9"/>
          <p:cNvSpPr/>
          <p:nvPr/>
        </p:nvSpPr>
        <p:spPr>
          <a:xfrm>
            <a:off x="304920" y="2286000"/>
            <a:ext cx="8839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66ccff"/>
                </a:solidFill>
                <a:latin typeface="Tahoma"/>
              </a:rPr>
              <a:t>« تصمیم گیر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69" name="Rectangle 10"/>
          <p:cNvSpPr/>
          <p:nvPr/>
        </p:nvSpPr>
        <p:spPr>
          <a:xfrm>
            <a:off x="0" y="3124080"/>
            <a:ext cx="8839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تعریف تصمیم گیری: 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فراگردی که طی آن شیوه عمل خاصی برای حل مسأله یا مشکل ویژه برگزیده می شو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3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3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4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9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9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4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4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Rectangle 4"/>
          <p:cNvSpPr/>
          <p:nvPr/>
        </p:nvSpPr>
        <p:spPr>
          <a:xfrm>
            <a:off x="0" y="3200400"/>
            <a:ext cx="8686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تعریف و تشخیص مشکل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66ccff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66ccff"/>
                </a:solidFill>
                <a:latin typeface="Tahoma"/>
              </a:rPr>
              <a:t>- دست یابی به راه حل ها و یا شیوه های عمل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99ff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3399ff"/>
                </a:solidFill>
                <a:latin typeface="Tahoma"/>
              </a:rPr>
              <a:t>- ارزشیابی و گزینش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66ff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0066ff"/>
                </a:solidFill>
                <a:latin typeface="Tahoma"/>
              </a:rPr>
              <a:t>-اجرای تصمیم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73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r>
              <a:rPr b="1" lang="fa-IR" sz="3600" spc="-1" strike="noStrike">
                <a:solidFill>
                  <a:srgbClr val="ffcc99"/>
                </a:solidFill>
                <a:latin typeface="Tahoma"/>
              </a:rPr>
              <a:t>« مراحل تصمیم گیری »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0" y="266688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تصمیم گیری فراگردی منطقی و عقلائی است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اما همین فرآیند هرچه قدر هم منطقی صورت پذیرد ، باز هم خالی و اشتباه و خطا نیست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8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Rectangle 4"/>
          <p:cNvSpPr/>
          <p:nvPr/>
        </p:nvSpPr>
        <p:spPr>
          <a:xfrm>
            <a:off x="0" y="26668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مهمترین مشکل ، ناتوانی در کسب اطلاعات و استفاده از آن است. به همین دلیل مدیران با عقلانیت محدود عمل می کن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Rectangle 4"/>
          <p:cNvSpPr/>
          <p:nvPr/>
        </p:nvSpPr>
        <p:spPr>
          <a:xfrm>
            <a:off x="0" y="320040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تصمیمات سازمانی را می توان به دو دسته عمده تقسیم بندی کرد: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الف: تصمیمات معمول ( با برنامه )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ب: تصمیمات غیر معمول ( بی برنامه )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83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Tahoma"/>
              </a:rPr>
              <a:t>« انواع تصمیمات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Rectangle 4"/>
          <p:cNvSpPr/>
          <p:nvPr/>
        </p:nvSpPr>
        <p:spPr>
          <a:xfrm>
            <a:off x="0" y="335268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اهداف                        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استانداردها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رویه ها                      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روشها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5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مقررات                      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6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خط مشی ها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87" name="Rectangle 5"/>
          <p:cNvSpPr/>
          <p:nvPr/>
        </p:nvSpPr>
        <p:spPr>
          <a:xfrm>
            <a:off x="0" y="243828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r>
              <a:rPr b="1" lang="fa-IR" sz="3600" spc="-1" strike="noStrike">
                <a:solidFill>
                  <a:srgbClr val="ff6600"/>
                </a:solidFill>
                <a:latin typeface="Tahoma"/>
              </a:rPr>
              <a:t>رهنمودهای مهم در اتخاذ تصمیمات معمول سازمان: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b7b6a3"/>
                </a:solidFill>
                <a:latin typeface="Tahoma"/>
              </a:rPr>
              <a:t>مدیریت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Rectangle 4"/>
          <p:cNvSpPr/>
          <p:nvPr/>
        </p:nvSpPr>
        <p:spPr>
          <a:xfrm>
            <a:off x="0" y="4419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استانداردها: معیار یا ملاکی که بتوان چیزی را با آن مقایسه کرد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0" y="320040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اهداف: نتایج مطلوبی که سازمان در جهت آنها هدایت می شود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18:46:42Z</dcterms:created>
  <dc:creator>Amin</dc:creator>
  <dc:description/>
  <dc:language>en-US</dc:language>
  <cp:lastModifiedBy>Aramesh</cp:lastModifiedBy>
  <dcterms:modified xsi:type="dcterms:W3CDTF">2020-04-18T11:41:32Z</dcterms:modified>
  <cp:revision>357</cp:revision>
  <dc:subject/>
  <dc:title>بسم الله الرحمن الرحیم</dc:title>
</cp:coreProperties>
</file>