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A63-9792-48FC-8FA7-430D87F3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D05-BC7F-4A63-81BF-914DA0C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EB007-92AC-4430-A9BA-65F9842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C011B-8359-48F1-B4BE-34A4AB14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7B306-F142-4607-B2B4-0CBA961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528D6-1A8B-4FC2-8E77-C71E9C2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6634D-B9DE-4BAD-B9C9-8D2F394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A9732-C594-4F02-BE6C-F2DBB66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41DE4-CAA3-4258-B969-CDE0CD7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09526-51AE-4ED3-B880-A6D0EC2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17FD4-5DF4-4D3C-8523-BB922114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AF788-38F1-4F26-8D9B-E5AF0384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585-A982-4DB6-A1C2-5C33E8B2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C27D4-8A6F-4691-8DA7-644B0B05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9421E-F33B-44BA-ADC0-4C762AC9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936B-583E-4EA3-8938-2564865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D540F-A657-4282-B644-D9BFFB8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63B33-1CF2-4EFB-9AF7-6092C12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37D55-64D9-4CBE-9BCD-88CAA860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F7749-2078-4CB7-9401-93D6E52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E0B8F-CDE3-4489-972B-B06749B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6AEED-F595-4331-AAC6-4682867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ABE5-9682-4F88-991C-38BE4D00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2FA-045C-4300-A84A-4A3BF9BB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969F4-B4F1-416E-A938-5615F3F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F063-6B53-48CA-813C-D52C7F8B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AEC-BB1C-4FB1-AB0B-973BDFE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127-F5AE-45A4-A28B-B5E5063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174A-62CD-4DEF-8122-5B95025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18B-0C16-42CF-A44C-15C75CC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B679-6AD1-4F65-A00B-7AD51C2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0BC2-5183-49E9-A57B-8628839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DE0-F4B6-4CC1-9457-D1F5383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5079-66F2-4594-A0F0-D1E4463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788-AB87-49E1-A445-FBA250F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4C2F-1D7E-4CD7-A8DB-D8767110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B1B-9E8E-4CCB-BF4B-BCDA2424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92C-F6EB-4A9E-88F7-2D7169A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D5BEA-0032-44A7-A977-614DFA2B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43519-AB19-4292-BE00-410AC36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35586-CD03-4901-A31B-894B5C8D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66F6E-0AFF-40ED-B415-3F5875DA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2D697-910F-45F8-B1A9-E0A6CB41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334-8CCB-4A29-B0ED-06D943D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0D11A-F334-4408-BBAB-1A0B0BF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949D1-175F-4D27-ACC8-F540937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EC8AA-5885-4A40-8060-37C8143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B8C16-A326-4691-8AFA-4D082CB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A0D77-EACB-4E96-978E-9B7469F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4CBC2-A497-457A-851E-3547228C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8E28C-B566-4F74-A164-DCA49EBE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FE546-ACA3-4742-9C66-A7C2D8E9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F149E-1979-4748-AE81-AD9A436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3AA76-5EC4-46D1-985B-8597FF1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033-A749-46D9-847D-EA6EEF7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0AE73-5A31-4C5F-9E85-BB2C777E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D70C8-7E88-4DC3-B96B-E0E1C083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41891-8AD7-4DB0-BBDC-2957C4F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61013-4022-4478-8846-CFB81AC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90BDE-E0D5-4071-BF9C-EED26FD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29BC1-3405-4881-B5D0-1F3ECFD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21DBA-4C55-434A-8CBB-270702C8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48B03-22B2-4EE9-A852-B5CF1BC3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53CA0-288C-48DC-A642-F2B35FBE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399E-0530-41F3-96D7-19402AE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9EB-8686-4C99-90A4-8DD87F6C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8E70-A4D1-4997-A661-9498587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C536-E0A0-4C84-BD9D-51E3A8C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718A-D959-49AF-8AB5-433D03AA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3B45-208C-4EA6-BE27-9211C440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FF46-C011-4AEA-98CE-0B68277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0239-84DA-45A0-AA62-E76528D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15FA-217A-45ED-842E-259C2CBD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F049-B6E7-4D48-92EB-20CE4817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20962-1849-4009-BDEB-F9100CF7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7650-433F-45F4-9B55-34298519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604-5963-4816-98DF-5824314E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4A8E-8D79-4467-8D53-C2B7A1D1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F11E0-0BB2-4D0C-A1FA-D5AEFB03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03DD9-0401-44E5-9310-AFC45D1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66906-4C4B-4A0F-B935-8B3DB07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2B175-F8AB-4F0F-96D6-0D4F58F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68D47-29FE-44AF-8CE0-4DB6C9E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52D7C-9F8D-40ED-B635-25960B2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FC127-1589-4455-838B-B3C40BC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69BD3-EE2B-412B-BB30-EB0A956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B09A7-5451-4E10-91A3-9FDEE49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85F-BF41-4F90-A529-1CC8B32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DC4FB-2F30-481F-A9AB-3B961353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9CCC5-C35E-4D00-B99B-652314DB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896AE-92D4-4FBF-B6EE-BEF552EC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BF90-CC40-43B8-B271-36FBD43E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887F-98A1-4633-BBAC-61DAD14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1045-F205-4680-BAB3-34C423B0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3C85-776E-484D-8B57-18C73FC8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1FFD-47A4-42FF-9892-C9643C0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12BD-7721-4922-B715-95547B2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11CD-0499-4563-A94A-784BD17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A32-4A8E-488F-B148-898FA97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7606-B1DE-4388-9868-337C710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0821-B54A-42FC-B150-8A2F535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E9F3-DFE8-4270-BD36-0A5E553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D6B3-579A-494B-9F8E-3917FEE8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DC6A-4E16-4455-B314-C4261199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7A63-F5F9-45E5-9A7A-8DFD8863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2D4CD-8331-47A7-8714-B8027A0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CECA-A875-4D6B-BEB8-DE69D0AB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9F85-FCCC-4357-97FD-FB4C0459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EA35-DBE8-42BA-95AC-589C826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9C1-C914-4331-A2B0-1630C70C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B8B3-A1AA-4FFB-BE9E-0F53FB16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C1D7-9F47-40BE-AA97-0DD79C3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36CD8-240C-4A4C-A29E-97E3F83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1F250-0291-4C66-8224-1786E3FE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87B0-1142-45D0-AC89-1805296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CA78A-54F3-48F2-A650-726A5DAA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4316-776C-44BC-950A-F4F9CCD2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0B72A-4866-4249-912D-B8106E3B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AD704-88E1-49D7-826F-54A4226A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6B824-294E-4AEB-98C0-39ECE8FB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454-1B1A-48BD-A9AB-199C0FFC7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25C-ECCD-403A-AB34-A64ABE1AA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1EB-4938-4FB3-B0A7-B668665216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453-834B-4547-BDEC-EBDAD9BA6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5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6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7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8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2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3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4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5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6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7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79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0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1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2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3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4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5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6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7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8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89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0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1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2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3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4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5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6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7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8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199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0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1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2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3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4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5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6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7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2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3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4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5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6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7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8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19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0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1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2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3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4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5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6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7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8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29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0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1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2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3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4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5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6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7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8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39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0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1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2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3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4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5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6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7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8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49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0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1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2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3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4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5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6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7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8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59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0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1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2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3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4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5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6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7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8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69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0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1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2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3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4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5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6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7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8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79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0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1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2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3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4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5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6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7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8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89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0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1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2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3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4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5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6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7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8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299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0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1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2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3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4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5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6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7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8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09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0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1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2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3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4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5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6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7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8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19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0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1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2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3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4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5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6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7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8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29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0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1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2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3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4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5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6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7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8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39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0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1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2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3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4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5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6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7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8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49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FC04-BCED-4801-9CCB-9718ACB06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9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39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6F5D-21A6-481F-A639-9C3F5FEB32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8BF-1657-482F-84B9-D99498A2B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AD5-CA1D-44E4-A216-396D01F07B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  <p:sp>
            <p:nvSpPr>
              <p:cNvPr id="52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ffff"/>
                  </a:solidFill>
                  <a:latin typeface="Tahoma"/>
                </a:endParaRPr>
              </a:p>
            </p:txBody>
          </p:sp>
        </p:grpSp>
        <p:sp>
          <p:nvSpPr>
            <p:cNvPr id="52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A11B-9C7B-4564-A907-F131C68FD7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73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4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6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7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8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89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0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1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2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3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4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5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6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7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8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599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0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1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2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3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4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5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6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7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8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09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0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1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2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3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4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5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6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7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8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19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0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1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2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3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4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5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6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7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8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29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0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1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2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3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4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5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6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7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8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39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0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1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2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3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4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5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6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7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8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49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0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1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2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3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4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5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6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7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8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59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0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1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2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3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4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5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6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7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8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69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0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1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2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3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4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5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6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7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8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79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0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1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2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3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4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5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6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7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8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89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0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1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2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3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4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5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6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7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8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699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0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1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2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3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4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5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6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7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8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09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0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1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2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3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4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6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7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8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19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0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1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2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3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4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5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6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7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8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29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0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1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2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3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4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5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6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7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8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39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0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1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2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3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4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5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6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7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8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49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0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1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2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3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4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5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6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7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8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59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0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1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2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3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4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5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6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7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8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69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0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1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2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3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4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5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6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7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8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79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0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1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2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3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4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5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6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  <p:sp>
          <p:nvSpPr>
            <p:cNvPr id="787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ffff"/>
                </a:solidFill>
                <a:latin typeface="Tahoma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9E8-26B8-4632-88C3-5285FD96A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بسم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له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من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ea typeface="IPT.Yagut"/>
              </a:rPr>
              <a:t></a:t>
            </a:r>
            <a:r>
              <a:rPr b="0" i="1" lang="fa-IR" sz="8000" spc="-1" strike="noStrike">
                <a:solidFill>
                  <a:srgbClr val="ff0000"/>
                </a:solidFill>
                <a:latin typeface="IPT.Yagut"/>
                <a:cs typeface="IPT.Yagut"/>
              </a:rPr>
              <a:t>الرحی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3505320"/>
            <a:ext cx="8686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عناصر و ویژگیهای مشترک سازمانها 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سازمانها هدف دارن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از ترکیب اجتماعی افراد تشکیل شده ان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Arial"/>
              </a:rPr>
              <a:t>« سازمان و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0" y="266688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آنها استمرار زمانی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خود را با استفاده از دانش انجام می ده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سازمانها ساختارمند و عقلائی عمل می کنن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0" y="35812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مشترک المناف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سازمانهای تجار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خدماتی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سازمانهای رفاه عموم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0" y="25146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0099ff"/>
                </a:solidFill>
                <a:latin typeface="Arial"/>
              </a:rPr>
              <a:t>انواع سازمانها از دیدگاه « بلا واسکات »: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3352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نر انجام کار بوسیله دیگران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ایجار محیط مؤثر برای اعضاء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 هماهنگ سازی منابع سه گانه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99"/>
                </a:solidFill>
                <a:latin typeface="Tahoma"/>
              </a:rPr>
              <a:t>-فراگرد تبدیل اطلاعات به عمل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تعریف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4"/>
          <p:cNvSpPr/>
          <p:nvPr/>
        </p:nvSpPr>
        <p:spPr>
          <a:xfrm>
            <a:off x="0" y="335268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فعالیت منظم و سازمان یافته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 هدف مند بود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روابط میان منابع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انجام کار بوسیله دیگران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ffffcc"/>
                </a:solidFill>
                <a:latin typeface="Tahoma"/>
              </a:rPr>
              <a:t>- تصمیم گیر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Arial"/>
              </a:rPr>
              <a:t> « ملاک های لازم برای مدیریت در سازمان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0" y="30481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باید کر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انجا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چگونه تقسیم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چه کسانی کار را انجام خواهند دا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« فراگرد مدیریت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27432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وسایلی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ظرف چه مدت انجام داده خواهد ش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7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با چه کیفیتی باید انجام شود؟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8</a:t>
            </a:r>
            <a:r>
              <a:rPr b="1" lang="fa-IR" sz="3200" spc="-1" strike="noStrike">
                <a:solidFill>
                  <a:srgbClr val="dfdef6"/>
                </a:solidFill>
                <a:latin typeface="Tahoma"/>
              </a:rPr>
              <a:t>- کار عملا با چه کیفیتی انجام می شود؟ 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Arial"/>
              </a:rPr>
              <a:t> « کارکردهای مدیریت 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4"/>
          <p:cNvSpPr/>
          <p:nvPr/>
        </p:nvSpPr>
        <p:spPr>
          <a:xfrm>
            <a:off x="1447920" y="33526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هماهنگ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1" name="AutoShape 5"/>
          <p:cNvSpPr/>
          <p:nvPr/>
        </p:nvSpPr>
        <p:spPr>
          <a:xfrm>
            <a:off x="3505320" y="4267080"/>
            <a:ext cx="167616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برنامه ریز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2" name="AutoShape 6"/>
          <p:cNvSpPr/>
          <p:nvPr/>
        </p:nvSpPr>
        <p:spPr>
          <a:xfrm>
            <a:off x="152388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b5b89"/>
                </a:solidFill>
                <a:latin typeface="Tahoma"/>
              </a:rPr>
              <a:t>کنترل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3" name="AutoShape 7"/>
          <p:cNvSpPr/>
          <p:nvPr/>
        </p:nvSpPr>
        <p:spPr>
          <a:xfrm>
            <a:off x="5486400" y="5105520"/>
            <a:ext cx="1676520" cy="152388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فر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4" name="AutoShape 8"/>
          <p:cNvSpPr/>
          <p:nvPr/>
        </p:nvSpPr>
        <p:spPr>
          <a:xfrm>
            <a:off x="5410080" y="3352680"/>
            <a:ext cx="1676520" cy="15242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5b5b89"/>
                </a:solidFill>
                <a:latin typeface="Tahoma"/>
              </a:rPr>
              <a:t>سازماندهی</a:t>
            </a:r>
            <a:endParaRPr b="1" lang="en-US" sz="3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5" dur="2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3522960" y="38098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برنامه ریز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3997800" y="5334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هدایت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5054760" y="45720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سازماندهی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703600" y="45720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Tahoma"/>
              </a:rPr>
              <a:t>کنترل</a:t>
            </a:r>
            <a:endParaRPr b="1" lang="en-US" sz="28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1" name="Line 13"/>
          <p:cNvSpPr/>
          <p:nvPr/>
        </p:nvSpPr>
        <p:spPr>
          <a:xfrm>
            <a:off x="3276720" y="35053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2" name="Line 23"/>
          <p:cNvSpPr/>
          <p:nvPr/>
        </p:nvSpPr>
        <p:spPr>
          <a:xfrm>
            <a:off x="4648320" y="4419720"/>
            <a:ext cx="0" cy="91440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3" name="Line 24"/>
          <p:cNvSpPr/>
          <p:nvPr/>
        </p:nvSpPr>
        <p:spPr>
          <a:xfrm>
            <a:off x="4267080" y="4876920"/>
            <a:ext cx="83844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4" name="Rectangle 25"/>
          <p:cNvSpPr/>
          <p:nvPr/>
        </p:nvSpPr>
        <p:spPr>
          <a:xfrm>
            <a:off x="0" y="2209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ffff"/>
                </a:solidFill>
                <a:latin typeface="Tahoma"/>
              </a:rPr>
              <a:t>« روابط متقابل کارکردهای مدیریت »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5" name="AutoShape 31"/>
          <p:cNvSpPr/>
          <p:nvPr/>
        </p:nvSpPr>
        <p:spPr>
          <a:xfrm flipH="1" flipV="1">
            <a:off x="3276000" y="3961800"/>
            <a:ext cx="533160" cy="60948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6" name="AutoShape 32"/>
          <p:cNvSpPr/>
          <p:nvPr/>
        </p:nvSpPr>
        <p:spPr>
          <a:xfrm rot="5400000">
            <a:off x="3161880" y="5143680"/>
            <a:ext cx="762120" cy="53316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7" name="AutoShape 33"/>
          <p:cNvSpPr/>
          <p:nvPr/>
        </p:nvSpPr>
        <p:spPr>
          <a:xfrm flipH="1" flipV="1" rot="10638600">
            <a:off x="5332680" y="5180040"/>
            <a:ext cx="533160" cy="610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48" name="AutoShape 34"/>
          <p:cNvSpPr/>
          <p:nvPr/>
        </p:nvSpPr>
        <p:spPr>
          <a:xfrm flipH="1" flipV="1" rot="5400000">
            <a:off x="5295600" y="4075920"/>
            <a:ext cx="685800" cy="457200"/>
          </a:xfrm>
          <a:prstGeom prst="pie">
            <a:avLst/>
          </a:prstGeom>
          <a:solidFill>
            <a:srgbClr val="ccff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ccccff"/>
                </a:solidFill>
                <a:latin typeface="Arial"/>
              </a:rPr>
              <a:t>مدیریت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0" y="32004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نتی  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شیوه بررسی مورد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3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رفتار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4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دیدگاه تصمیم گیر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5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مقداری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6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شیوه سیست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66ccff"/>
                </a:solidFill>
                <a:latin typeface="Arial"/>
              </a:rPr>
              <a:t>شیوه های مطالعه مدیریت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2" dur="20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94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درس: مدیریت آموزشگاهی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کتاب:مقدمات مدیریت آموزشی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Verdana"/>
              </a:rPr>
              <a:t>       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نام مؤلف:دکتر علی علاقه بند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مدرس: یگانه</a:t>
            </a:r>
            <a:br>
              <a:rPr sz="4800"/>
            </a:b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تعداد واحد: </a:t>
            </a:r>
            <a:r>
              <a:rPr b="1" lang="fa-IR" sz="4800" spc="-1" strike="noStrike">
                <a:solidFill>
                  <a:srgbClr val="33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5" descr="SuperStock_143-322B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6"/>
          <p:cNvSpPr txBox="1"/>
          <p:nvPr/>
        </p:nvSpPr>
        <p:spPr>
          <a:xfrm>
            <a:off x="3505320" y="182880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پایان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درس مدیریت یکی از دروس اصلی رشته علوم تربیتی با گرایش های مدیریت و برنامه ریزی و دبستانی و پیش دبستانی اس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0" y="2209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e5e5ff"/>
                </a:solidFill>
                <a:latin typeface="Tahoma"/>
              </a:rPr>
              <a:t>به طور کلی هدف از تألیف کتاب ، زمینه سازی برای شناخت علمی مدیریت و رهبری در آموزش و پرورش و تفکر درباره مسائل آن است.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123720" y="3594240"/>
            <a:ext cx="2971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WordArt 4"/>
          <p:cNvSpPr txBox="1"/>
          <p:nvPr/>
        </p:nvSpPr>
        <p:spPr>
          <a:xfrm>
            <a:off x="2895480" y="160020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259092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جامعه امروز یک جامعه سازمانی است.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</a:rPr>
              <a:t>از ابتدای تاریخ ضرورت زندگی اجتماعی ، انسانها را دور هم جمع کرده است.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762120" y="1676520"/>
            <a:ext cx="7467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0" y="350532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هرگاه افراد انسان که با هم زندگی می کنند یا به اقتضای زندگی اجتماعی دور هم جمع می شوند ، الگویی را به وجود می آورند که اصطلاحا سازمان اجتماعی نام دارد.    </a:t>
            </a:r>
            <a:r>
              <a:rPr b="1" lang="fa-IR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0" y="2286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4000" spc="-1" strike="noStrike">
                <a:solidFill>
                  <a:srgbClr val="66ffff"/>
                </a:solidFill>
                <a:latin typeface="Garamond"/>
              </a:rPr>
              <a:t>« سازمان اجتماعی »</a:t>
            </a:r>
            <a:endParaRPr b="1" lang="en-US" sz="40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c00"/>
                </a:solidFill>
                <a:latin typeface="Garamond"/>
              </a:rPr>
              <a:t>سازمان اجتماعی : </a:t>
            </a:r>
            <a:r>
              <a:rPr b="1" lang="fa-IR" sz="3200" spc="-1" strike="noStrike">
                <a:solidFill>
                  <a:srgbClr val="e5e5ff"/>
                </a:solidFill>
                <a:latin typeface="Garamond"/>
              </a:rPr>
              <a:t>الگوی روابط اجتماعی ، باورها ، جهت گیریهای مشترک را شامل می شو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سازمان دارای دو وجه اصلی است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44956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سازمانها از یک منظر بر دو نوع هستند: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1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رسمی                 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ccffff"/>
                </a:solidFill>
                <a:latin typeface="Tahoma"/>
              </a:rPr>
              <a:t>- غیر رسم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22860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الگو یا ساختار روابط اجتماعی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Garamond"/>
              </a:rPr>
              <a:t>- مجموعه باورها و جهت گیری های مشترک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Garamond"/>
              </a:rPr>
              <a:t>مدیری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0" y="266688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dfdfd"/>
                </a:solidFill>
                <a:latin typeface="Garamond"/>
              </a:rPr>
              <a:t> </a:t>
            </a:r>
            <a:r>
              <a:rPr b="1" lang="fa-IR" sz="3200" spc="-1" strike="noStrike">
                <a:solidFill>
                  <a:srgbClr val="00ffff"/>
                </a:solidFill>
                <a:latin typeface="Garamond"/>
              </a:rPr>
              <a:t>مجموعه این وظایف « سرپرستی و نظارت ، هماهنگی ، هدایت،» که رفتار و فعالیت سازمانی را در مسیر هدف تنظیم،تصحیح،تقویت و راهنمایی می کند ، مدیریت نام دارد.</a:t>
            </a: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8:46:42Z</dcterms:created>
  <dc:creator>Amin</dc:creator>
  <dc:description/>
  <dc:language>en-US</dc:language>
  <cp:lastModifiedBy>Aramesh</cp:lastModifiedBy>
  <dcterms:modified xsi:type="dcterms:W3CDTF">2020-04-18T11:25:17Z</dcterms:modified>
  <cp:revision>358</cp:revision>
  <dc:subject/>
  <dc:title>بسم الله الرحمن الرحیم</dc:title>
</cp:coreProperties>
</file>