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35AD-0A09-4BA6-93AB-DA5DC0A4AC64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BD61-15EB-4C40-A1FA-A040DEC71A8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A5DC-B4B6-4306-8109-3ECDCFCC5F3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0153-8AC8-4554-B614-03D28C09424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F96C-7F29-44F4-9428-BC6CC8AEE9B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5D53-B50B-468A-AFF1-9DC65114E62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C10A-D177-4D6D-97F5-E0524A47940E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DBA3-71D2-44A7-86F0-C91CEB53E59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678E-3DDE-4591-A3B7-42B47CB8D36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326F-79E9-4568-8A1D-5BE0B02773D7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339-32EF-4283-9CEA-04F5CA89B1E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920B-9F49-4F46-9C4A-A5B072035176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66B4-DBFA-425B-8659-CF863DDF017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11BC-4C1D-49C5-89DE-68A064BB9707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6878-045A-4025-9F16-1D94E4D4898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A9A8-9D95-4621-AC4F-F312075FC8E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ACE3-E088-4DC7-99C9-DF2D866E6E93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D1BF-6EE2-4DB0-B5C6-87762F5D978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6ED0-8A3E-43AD-BEE9-325DFCAFD32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E7D3-AC59-48BF-8D26-A14180B51C3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00A1-9BFC-4EC2-A1C6-FE1E6FABA5A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755-D657-4440-904A-C4DAD731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C27-F003-4158-8D9C-B3C54E15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DCD-8E20-4815-9E7B-20E4C776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D62-F67B-4C1B-B965-3C3B2646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A545-0994-4236-B1A9-3703C225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3ADC-B311-4960-99B3-48C4A040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FD87-6C63-456F-8FAE-0DEB324C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B5F9-6653-42B0-86FC-480C45BD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FF2C-B0FC-49F0-939F-8E23B41D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DD36-B3B3-48D7-B00F-F06419DC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EE92-1358-4B6B-BD70-AA35BC3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117-2CA7-416F-80A8-C206C1D4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6A90-47DD-4D0C-8F86-11C59D72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F79C-43C2-4892-B4DA-C058518A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C2C5-9ADD-47EA-9940-1685D81A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95F2-4F35-4570-9D38-C4217501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AAFC-5BCA-49A9-81CD-B4D37207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CC521-7B9E-4DE9-8AEB-E2E3837A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0446D-2886-4DF0-A041-36702070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F0807-926B-433C-93BB-E995D325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04E23-14DA-4B68-9882-6A0FA3F9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04B55-B8BA-4414-AAC0-AFD0FA18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6E1-4E0C-4D91-B39B-3AB5CBEB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0FF2A-0EF1-4439-9A17-A6F19F23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A436C-E476-4027-B31D-00004C7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ADFD9-8D7D-49EE-B74C-10FC7323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F8101-D4E1-4154-9821-AECEFF0C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F4809-513B-4A5A-A4CE-2267379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0B632-AAB0-423F-9FA3-7B9A0E51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5098C-E9CC-48CD-A0C0-C00A0279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D2CC-E97F-43DB-B234-86A643ED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5D47-7D78-48B1-9627-B05B603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46AA3-F960-4CDA-9695-296AC345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6D8-D304-495B-BFD9-FD8E136A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78EE-D449-4285-9933-BDA7912C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3B9A-B420-4FAC-B282-405D6481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9B42E-47B3-41DE-B4F2-B0EB9F7A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D352-0AB7-4F24-907B-F87AB235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4FAC-710C-40FA-ABB3-979D6D10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1BD3A-7FCC-4434-8A1C-DFF845B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7753-AFFF-483D-81E3-5C16B0C0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BF3AC-C399-4D62-8D83-A10893D6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B740-412A-4089-808E-DF967F94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D9AE4-4240-41C1-A755-3FBEADB5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59E-A716-4645-BDA5-0AB22E88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92AA-EC8A-4470-88E7-DC9F181F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7C71-CC32-4F6F-99C0-A1EADDAD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10069-CBAC-4C5E-ACB6-D83E8287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435C-8BF8-4F0A-8A4B-6D4421B2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698B1-B278-4B53-B2B9-88C2B484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EFE2-4871-4089-9716-FA848D0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2704-ED9E-41F2-8E55-CFD9F9B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30AA8-8174-49D8-B541-FF466E14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DE5C-68E9-4BF7-828B-D6ED2B9F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99F5E-0394-432D-99E5-1881AA9E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ECA-F2FA-4018-A09E-B81E3831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BB505-412C-4812-937D-71A8163A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6934A-B514-4905-AAB8-628CA211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07DF-1ED9-4F1C-852D-9D67D05D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DB71-9E31-4E77-BD8D-09C5BC4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E4E09-7F38-44C0-8251-2F5AA01C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99DC8-EE67-4837-AD96-00F737B1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E58A1-F253-4F63-A1A0-5FE44C09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7CD2C-B558-4467-9A24-83FFD1A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A616D-BA06-49B7-9836-0958704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F95E-0B98-41BA-8363-8186D0A9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966-9F1B-4782-8233-133B61F7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2416-D2D2-402E-B39E-C470C9DE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AD7B-89E5-4B70-B894-193BBA94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578AB-E681-47C7-A678-43C8C46A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BD70-00C7-4366-BA05-79B955B0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E4B10-402B-4A52-AF34-251D19F6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F589-5FCB-4C3D-9B31-3C690C2C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69743-62EA-4985-8CBD-92DCB8BF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35E8B-B3AF-4D84-AF67-DF0838D4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5032E-1056-469B-BDF2-0E89FD57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6363C-823C-4323-9360-EAE6441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621-7510-4C54-B8E8-5B2ED90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3F974-0093-4DD4-834F-A19A40CD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4D841-B1C3-42D6-878E-C75FFE47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4ADDE-D643-4B5A-8011-7A331D8A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8DBEE-3A6D-455D-9A7A-98958747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E78D3-8D53-4F88-B7EA-2F1698CA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B09C6D-25E6-46B0-BF43-E01E503B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C43875-1A4D-4019-9A24-A39A4B4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BC97E4-0455-4F33-BC05-B613994F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CBD2E1-A5A8-45F3-866E-7A915E1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DCE41E-8360-410F-BBFB-63AA5E19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22E-A383-4974-87F6-48B17B0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0B0929-D20D-4FC6-BB20-65C2FF1B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5852F-9E1D-4983-88B9-E6642DCF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4402D8-4F5D-4C0B-820F-C5038340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F4D887-EE3B-4B43-AA6D-8305774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1B0D8A-E966-4FC1-AF5D-EF1E21B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79F503-C880-4096-9F3C-C477B6C8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DD478C-68DF-481C-9AF9-C7EFDF9E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95FE-0655-4A6C-9C35-AD8EF36E655D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AECF-A5CC-4C69-9ABC-14CFF51B8837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F667-9960-4F45-9E21-2262AFA1C3E5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1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0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DE78-EEEC-4C69-9E3D-6FF865CA3CA7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8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67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902-B839-47AA-8C1A-F1B086A7183A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1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1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0EBD-17A6-42B8-A8A7-939FFEF0664A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DB55-6F8D-4422-ADD8-045E81D85C38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3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7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0CFE-0C50-4E87-8D4D-EC1906E8CE4D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635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درس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ea typeface="B Sina"/>
              </a:rPr>
              <a:t> روش تحقیق و آمار در علوم تربیتی و روانشناس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تعداد واحد درسی </a:t>
            </a:r>
            <a:r>
              <a:rPr b="0" lang="fa-IR" sz="2400" spc="-1" strike="noStrike">
                <a:solidFill>
                  <a:srgbClr val="ffff00"/>
                </a:solidFill>
                <a:latin typeface="Arial"/>
                <a:ea typeface="B Sina"/>
              </a:rPr>
              <a:t>3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منبع 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cs typeface="B Sina"/>
              </a:rPr>
              <a:t>روش تحقیق در روان شناسی و علوم تربیت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ولف: دکترعلی دلاور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درس: یگانه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3e3ff"/>
                </a:solidFill>
                <a:latin typeface="Arial"/>
                <a:cs typeface="B Zar"/>
              </a:rPr>
              <a:t>فرمول برآورداندازه نمونه برای مقایسه دو گروه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B Zar"/>
              </a:rPr>
              <a:t>فرمول برآورد اندازه نمونه برای یک گرو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6"/>
              <p:cNvSpPr txBox="1"/>
              <p:nvPr/>
            </p:nvSpPr>
            <p:spPr>
              <a:xfrm>
                <a:off x="838080" y="1295280"/>
                <a:ext cx="24386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7"/>
              <p:cNvSpPr txBox="1"/>
              <p:nvPr/>
            </p:nvSpPr>
            <p:spPr>
              <a:xfrm>
                <a:off x="838080" y="2895480"/>
                <a:ext cx="22100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در مطالعات همبستگی حجم نمونه حداقل بایستی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30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 نفر باشد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5962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تحقیق تاریخی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ای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با ماهیت واهداف پژوهش تاریخی آشنا شو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راحل پژوهش تاریخی را نام ببری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نابع مدارک تاریخی را بشناس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براساس گفته قدمای یونان ، تاریخ عبارت است از پژوهش به منظور باز سازی اتفاقات گذشت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ویژگیهای پژوهش تاریخی 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پیچیدگی نسبی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گاهی ناقص بودن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عدم توانایی در آزمون آنها به صورت آزمایشی وکنترل شرا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نسبی بودن معیارهای تجزیه وتحلی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5e5ff"/>
                </a:solidFill>
                <a:latin typeface="Garamond"/>
                <a:cs typeface="B Zar"/>
              </a:rPr>
              <a:t>پژوهش تاریخی را می توان بر اساس ملاکهای زیر طبقه بندی کرد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رو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وضو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کنی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اهداف پژوهش تاریخی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هدف مقدماتی آن بدست آوردن دیدگاه روشنی از زمان حال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حرک اصلی آن تمایلات مورخ در دستیابی به حقایق گذشته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مراحل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عریف ومحدود کردن مسأل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صورتبندی کردن فرض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جمع آوری کردن اطلاعا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ارزشیابی اطلاعات ومناب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جزیه وتحلیل و نتیجه گی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6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هیه گزار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Content Placeholder 224261"/>
          <p:cNvGrpSpPr/>
          <p:nvPr/>
        </p:nvGrpSpPr>
        <p:grpSpPr>
          <a:xfrm>
            <a:off x="457200" y="685800"/>
            <a:ext cx="8228160" cy="3809160"/>
            <a:chOff x="457200" y="685800"/>
            <a:chExt cx="8228160" cy="3809160"/>
          </a:xfrm>
        </p:grpSpPr>
        <p:cxnSp>
          <p:nvCxnSpPr>
            <p:cNvPr id="532" name="_s4100"/>
            <p:cNvCxnSpPr>
              <a:stCxn id="533" idx="3"/>
              <a:endCxn id="534" idx="2"/>
            </p:cNvCxnSpPr>
            <p:nvPr/>
          </p:nvCxnSpPr>
          <p:spPr>
            <a:xfrm flipV="1">
              <a:off x="5393880" y="1637280"/>
              <a:ext cx="823320" cy="2381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4101"/>
            <p:cNvCxnSpPr>
              <a:stCxn id="536" idx="3"/>
              <a:endCxn id="534" idx="2"/>
            </p:cNvCxnSpPr>
            <p:nvPr/>
          </p:nvCxnSpPr>
          <p:spPr>
            <a:xfrm flipV="1">
              <a:off x="5393880" y="1637280"/>
              <a:ext cx="823320" cy="952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4" name="_s4102"/>
            <p:cNvSpPr/>
            <p:nvPr/>
          </p:nvSpPr>
          <p:spPr>
            <a:xfrm>
              <a:off x="3748320" y="68580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طبقه بندی منابع تاریخ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4103"/>
            <p:cNvSpPr/>
            <p:nvPr/>
          </p:nvSpPr>
          <p:spPr>
            <a:xfrm>
              <a:off x="457200" y="211428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اسناد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4104"/>
            <p:cNvSpPr/>
            <p:nvPr/>
          </p:nvSpPr>
          <p:spPr>
            <a:xfrm>
              <a:off x="457200" y="354276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آثار و ابنیه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اول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توسط مشاهده واقعی حادثه ارائه شده اند در حالیکه </a:t>
            </a: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دوم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از طریق واسطه به پژوهشگر رسیده اند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فصل پنجم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جامعه پژوهشی را تعریف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ضمن تعریف نمونه گیری ، انواع آن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روشهای بر آورد حجم نمونه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نقد یا اعتبار بیرونی ، سندیت مدرک یا اثر مورد ارزشیابی قرار می گیرد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اعتبار درونی ، انگیزه ، تمایلات و محدودیتهای صاحب منبع مورد نظر اس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اولین قدم در نمونه گیری ، تعریف جامعه مورد نظر است وآن عبارت است از اینکه اعضای واقعی یا فرضی که علاقمند هستیم یافته های پژوهش را به آنها تعمیم دهی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نمونه گیری یعنی انتخاب تعدادی از افراد ،حوادث یا اشیاء از یک جامعه تعریف شده به عنوان نماینده آن جامع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مزیت انتخاب یک نمونه از یک جامعه ،جلوگیری از اتلاف وقت وصرفه جویی در منابع مالی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Content Placeholder 194565"/>
          <p:cNvGrpSpPr/>
          <p:nvPr/>
        </p:nvGrpSpPr>
        <p:grpSpPr>
          <a:xfrm>
            <a:off x="457200" y="762120"/>
            <a:ext cx="8228880" cy="4615560"/>
            <a:chOff x="457200" y="762120"/>
            <a:chExt cx="8228880" cy="4615560"/>
          </a:xfrm>
        </p:grpSpPr>
        <p:cxnSp>
          <p:nvCxnSpPr>
            <p:cNvPr id="490" name="_s1028"/>
            <p:cNvCxnSpPr>
              <a:stCxn id="491" idx="0"/>
              <a:endCxn id="492" idx="2"/>
            </p:cNvCxnSpPr>
            <p:nvPr/>
          </p:nvCxnSpPr>
          <p:spPr>
            <a:xfrm flipV="1" rot="16200000">
              <a:off x="4240440" y="3481200"/>
              <a:ext cx="420120" cy="169452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3" name="_s1029"/>
            <p:cNvCxnSpPr>
              <a:stCxn id="494" idx="0"/>
              <a:endCxn id="492" idx="2"/>
            </p:cNvCxnSpPr>
            <p:nvPr/>
          </p:nvCxnSpPr>
          <p:spPr>
            <a:xfrm flipH="1" flipV="1" rot="5400000">
              <a:off x="2546280" y="3480840"/>
              <a:ext cx="420120" cy="169524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5" name="_s1030"/>
            <p:cNvCxnSpPr>
              <a:stCxn id="492" idx="3"/>
              <a:endCxn id="496" idx="2"/>
            </p:cNvCxnSpPr>
            <p:nvPr/>
          </p:nvCxnSpPr>
          <p:spPr>
            <a:xfrm flipV="1">
              <a:off x="5055840" y="1600920"/>
              <a:ext cx="2178360" cy="209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7" name="_s1031"/>
            <p:cNvCxnSpPr>
              <a:stCxn id="498" idx="3"/>
              <a:endCxn id="496" idx="2"/>
            </p:cNvCxnSpPr>
            <p:nvPr/>
          </p:nvCxnSpPr>
          <p:spPr>
            <a:xfrm flipV="1">
              <a:off x="5055840" y="1600560"/>
              <a:ext cx="2178360" cy="83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6" name="_s1032"/>
            <p:cNvSpPr/>
            <p:nvPr/>
          </p:nvSpPr>
          <p:spPr>
            <a:xfrm>
              <a:off x="5781960" y="7621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ffff"/>
                  </a:solidFill>
                  <a:latin typeface="Arial"/>
                </a:rPr>
                <a:t>روشهای نمونه گیر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_s1033"/>
            <p:cNvSpPr/>
            <p:nvPr/>
          </p:nvSpPr>
          <p:spPr>
            <a:xfrm>
              <a:off x="2151720" y="202068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_s1034"/>
            <p:cNvSpPr/>
            <p:nvPr/>
          </p:nvSpPr>
          <p:spPr>
            <a:xfrm>
              <a:off x="2151720" y="327960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غیر تصادق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_s1035"/>
            <p:cNvSpPr/>
            <p:nvPr/>
          </p:nvSpPr>
          <p:spPr>
            <a:xfrm>
              <a:off x="45720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اوطلبان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_s1036"/>
            <p:cNvSpPr/>
            <p:nvPr/>
          </p:nvSpPr>
          <p:spPr>
            <a:xfrm>
              <a:off x="384552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ر دستر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Content Placeholder 197637"/>
          <p:cNvGrpSpPr/>
          <p:nvPr/>
        </p:nvGrpSpPr>
        <p:grpSpPr>
          <a:xfrm>
            <a:off x="457200" y="258840"/>
            <a:ext cx="8228160" cy="5806440"/>
            <a:chOff x="457200" y="258840"/>
            <a:chExt cx="8228160" cy="5806440"/>
          </a:xfrm>
        </p:grpSpPr>
        <p:cxnSp>
          <p:nvCxnSpPr>
            <p:cNvPr id="500" name="_s2052"/>
            <p:cNvCxnSpPr>
              <a:stCxn id="501" idx="3"/>
              <a:endCxn id="502" idx="2"/>
            </p:cNvCxnSpPr>
            <p:nvPr/>
          </p:nvCxnSpPr>
          <p:spPr>
            <a:xfrm flipV="1">
              <a:off x="5393880" y="1087560"/>
              <a:ext cx="823320" cy="456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3" name="_s2053"/>
            <p:cNvCxnSpPr>
              <a:stCxn id="504" idx="3"/>
              <a:endCxn id="502" idx="2"/>
            </p:cNvCxnSpPr>
            <p:nvPr/>
          </p:nvCxnSpPr>
          <p:spPr>
            <a:xfrm flipV="1">
              <a:off x="5393880" y="1087560"/>
              <a:ext cx="823320" cy="331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5" name="_s2054"/>
            <p:cNvCxnSpPr>
              <a:stCxn id="506" idx="3"/>
              <a:endCxn id="502" idx="2"/>
            </p:cNvCxnSpPr>
            <p:nvPr/>
          </p:nvCxnSpPr>
          <p:spPr>
            <a:xfrm flipV="1">
              <a:off x="5393880" y="1087920"/>
              <a:ext cx="823320" cy="207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7" name="_s2055"/>
            <p:cNvCxnSpPr>
              <a:stCxn id="508" idx="3"/>
              <a:endCxn id="502" idx="2"/>
            </p:cNvCxnSpPr>
            <p:nvPr/>
          </p:nvCxnSpPr>
          <p:spPr>
            <a:xfrm flipV="1">
              <a:off x="5393880" y="1087920"/>
              <a:ext cx="823320" cy="83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_s2056"/>
            <p:cNvSpPr/>
            <p:nvPr/>
          </p:nvSpPr>
          <p:spPr>
            <a:xfrm>
              <a:off x="3748320" y="258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انواع نمونه گیری تصادف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_s2057"/>
            <p:cNvSpPr/>
            <p:nvPr/>
          </p:nvSpPr>
          <p:spPr>
            <a:xfrm>
              <a:off x="457200" y="150300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ساده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_s2058"/>
            <p:cNvSpPr/>
            <p:nvPr/>
          </p:nvSpPr>
          <p:spPr>
            <a:xfrm>
              <a:off x="457200" y="274716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منظ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_s2059"/>
            <p:cNvSpPr/>
            <p:nvPr/>
          </p:nvSpPr>
          <p:spPr>
            <a:xfrm>
              <a:off x="457200" y="399168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طبقه ای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_s2060"/>
            <p:cNvSpPr/>
            <p:nvPr/>
          </p:nvSpPr>
          <p:spPr>
            <a:xfrm>
              <a:off x="457200" y="5235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خوشه ا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خطای نمونه گیری تابع اندازه حجم نمونه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3e3ff"/>
                </a:solidFill>
                <a:latin typeface="Arial"/>
                <a:cs typeface="B Zar"/>
              </a:rPr>
              <a:t>در شرایط زیر بایستی نمونه را بزرگ انتخاب کرد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وجود متغیرهای کنترل نشده زیاد در تحقی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پیش بینی تفاوت یا همبستگی پایی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تقسیم گروه نمونه به زیرگروههای فرع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نامتجانس بود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عدم وجودوسیله پایا برای اندازه گیری متغیروابست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20:18:51Z</dcterms:created>
  <dc:creator>Your User Name</dc:creator>
  <dc:description/>
  <dc:language>en-US</dc:language>
  <cp:lastModifiedBy>Aramesh</cp:lastModifiedBy>
  <dcterms:modified xsi:type="dcterms:W3CDTF">2020-04-18T10:53:59Z</dcterms:modified>
  <cp:revision>3</cp:revision>
  <dc:subject/>
  <dc:title>نام درس مقدمات روش تحقیق درعلوم تربیتی  تعداد واحد درسی 3واحد  نام منبع  روش تحقیق درروان شناسی وعلوم تربیتی  مولف دکترعلی دلاور  تهیه کننده اسلاید عباس میربلوک بزرگی-عضو هیئت علمی مرکز تالش-منطقه یک</dc:title>
</cp:coreProperties>
</file>