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9.wmf" ContentType="image/x-wmf"/>
  <Override PartName="/ppt/media/image23.jpeg" ContentType="image/jpeg"/>
  <Override PartName="/ppt/media/image22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17.jpeg" ContentType="image/jpeg"/>
  <Override PartName="/ppt/media/image3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7BFC-7F9B-4F09-9D67-50DFB8FF8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اگر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مناسب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نیاز به کمک برای تثبیت تنفس و سایر نشانه های حیاتی     کمتر از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 خطر جدی و مراقبت اضطراری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438B-F020-4183-8832-DFCA0DCBD62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51BE-207B-45BB-8E7E-F5F063795D8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C082-A14F-4F0F-94D7-63085FC7427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BB77-4428-4E5C-818E-75221251616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7F4-7D3D-42A6-976D-1F7B3FCE097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F12D-4803-45A5-8EB8-38CE2F0BB9D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F85-B660-4775-ADBC-6DB86BFF623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1CA-BBBF-42EE-A624-B13A73C7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685-AD31-4159-9303-A7727011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DA3-874C-46B4-8731-4673E27B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C43-73B7-4720-8CEF-BCA49DFE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8213-82D5-43A9-B70B-253F7FFD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6D0-FD37-4B69-804D-4468BCD9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36FE-E640-49BD-9875-4B4F4054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1C4A-971F-4414-BCE8-0711456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012-A6A2-457E-A9A1-01F50AFE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C9F3-BACF-4BD8-96C6-32D8BACE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E87B-FD62-478E-89CF-937392C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7F0-9CED-40A1-ABF3-8EC3227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78EF-D1D4-4816-8515-A272E6B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B31B-3610-4029-939B-B4E1FF6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CBC1-E36D-4754-AB94-B23486FC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C5F7-3646-437C-9517-C1BC4691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79E5-9F95-417F-B4E8-66389966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E47-2C87-4B5F-9AA5-3B3F6FEB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752-EEAC-4BFE-947E-6CD48433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88A-71FA-4423-AE9C-D183B5B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7B6-528C-40A6-8493-ADC3F7FF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845-2D19-4CDD-A757-C57326CC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467-516D-4B12-BA83-262D0CAD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D83-90D5-4A92-9210-7F67E99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4961-BFC9-421B-BB19-77EFA034DF3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8BF5-7297-4206-8B28-AEDDCDBBA88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Through the Lifesp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6200" y="1941480"/>
            <a:ext cx="465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Arial"/>
                <a:cs typeface="Arial"/>
              </a:rPr>
              <a:t>فصل سوم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189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Arial"/>
                <a:cs typeface="Arial"/>
              </a:rPr>
              <a:t>رشد پیش از تولد  ، تولد و کودک تازه متولد شده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80880" y="61722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الکل</a:t>
            </a:r>
            <a:r>
              <a:rPr b="0" lang="fa-IR" sz="2400" spc="-1" strike="noStrike">
                <a:solidFill>
                  <a:srgbClr val="ffcc00"/>
                </a:solidFill>
                <a:latin typeface="Arial"/>
              </a:rPr>
              <a:t> (آسیب رشدی در مغز و مصرف اکسیژن مادر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عقب ماندگی ذه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اهماهنگی حرکت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ص در توجه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ص در حافظه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زبان معیوب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بیش فعال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ابهنجاری جسمی مانند: (فاصله چشمها زیاد است ، پلکها کم باز می شوند، بینی کوچک و سربالا، لب بالا نازک و سرکوچک که بیانگر رشد کم مغز است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تشعشع (جهش ژنی 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4112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فزایش سقط جنی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غز رشد نایافته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نقایص جسما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رشد جسمانی کم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رشد هوشی کمتر (حتی بعد از سال ها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ضطراب بال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جیوه و سرب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601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ایص جسما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عقب ماندگی ذه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گفتار نابهنجار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مشکل در جویدن و بلعید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حرکات ناهماهنگ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Arial"/>
              </a:rPr>
              <a:t>سرب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زودرس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کم وزنی زمان تولد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آسیب مغز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مشکلات جسما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بیماریهای عفونی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601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رخجه : 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در دوره رویانی باعث نارسائیها قلبی ، آب مروارید،کری نابهنجاری تناسلی ، ادراری و روده ای و عقب ماندگی ذهنی، نارسائیهای استخوانی 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یدز :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 نقص دستگاه ایمنی : در شش ماهگی نقص ؛ کاهش وزن ، اسهال و بیماریهای تنفسی مشهود است، آسیب مغزی ، کاهش وزن مغز ، بچه ها بعد از بروز این علائم  فقط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 تا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8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 ماه زنده می مانند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ویروس تبخال: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 ارگانیزم در حال رشد خیلی به آن حساس است ، سقط جنین ، کم وزنی ، نقایص جسمانی ،عقب ماندگی ذهنی ) 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بیماری باکتریایی و انگلی :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توکسوپلاسموز شایعترین آن است ، آسیب به چشم و مغز در سه ماهه اول جنینی ، اختلالهای دیداری و شناختی ) 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8680" y="1928520"/>
            <a:ext cx="767232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قدار : مقدار بیشتر در زمان طولانی تر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وراثت : اینکه آمادگی فرد چقدر است 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اثیرات مخرب دیگر : مانند تغذیه ب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ن ارگانیزم پیش از تولد : به این معنی که کی تراتوژن وارد شده </a:t>
            </a:r>
            <a:r>
              <a:rPr b="0" lang="fa-IR" sz="1800" spc="-1" strike="noStrike">
                <a:solidFill>
                  <a:srgbClr val="ffffcc"/>
                </a:solidFill>
                <a:latin typeface="Arial"/>
              </a:rPr>
              <a:t>(دوره های حساس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آسیب های تراتوژن ها به چندین عامل بستگی دارد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عوامل مادری موثر بر رشد سالم جنین در پیش از تولد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02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تغذیه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بیماریهای عفو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استرسهای هیجا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عامل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rh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fa-IR" sz="3200" spc="-1" strike="noStrike">
                <a:solidFill>
                  <a:srgbClr val="ffffcc"/>
                </a:solidFill>
                <a:latin typeface="Arial"/>
                <a:ea typeface="Arial"/>
              </a:rPr>
              <a:t>  خو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سن مادر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زایمان های قبل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831960" y="1941480"/>
            <a:ext cx="302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قیاس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APG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4120" y="1941480"/>
            <a:ext cx="320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pear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m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spir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rcRect l="17500" t="0" r="5000" b="0"/>
          <a:stretch/>
        </p:blipFill>
        <p:spPr>
          <a:xfrm>
            <a:off x="533520" y="190512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مقیاس آپگار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علامت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0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4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ضربان در دقیقه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کمتر از 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0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در دقیق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قلب و جود ندار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قلب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نفس و گریه کردن قو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نفس نامنظم و سطح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ه مدت شصت ثانیه تنفس وجود ندار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لاش تنفس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بازتابی قو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بازتابی ضعیف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وجود ندار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حریک پذ یری بازتاب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عطسه ، سرفه ، اخم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حرکات قو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دستها  و پاها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حرکات ضعیف دستها و پاها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کاملا شل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ونوس عضلا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، دستها و پاها کاملا صورت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صورتی ، اما دست و پا کبو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و دست و پا کبود است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رنگ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زایمان طبیعی، و برنامه هایی برای شرکت مادر حامله و یک مراقب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16320" y="2876040"/>
            <a:ext cx="40273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شرکت در کلاسه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روشهای آرمیدگی و تنف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ربی زایما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2214720"/>
            <a:ext cx="40291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سه مرحله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4" name="Picture 1028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30"/>
          <p:cNvSpPr/>
          <p:nvPr/>
        </p:nvSpPr>
        <p:spPr>
          <a:xfrm>
            <a:off x="45720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207040" y="542916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imes New Roman"/>
              </a:rPr>
              <a:t>س</a:t>
            </a:r>
            <a:r>
              <a:rPr b="0" lang="fa-IR" sz="3600" spc="-1" strike="noStrike">
                <a:solidFill>
                  <a:srgbClr val="ffffcc"/>
                </a:solidFill>
                <a:latin typeface="Times New Roman"/>
              </a:rPr>
              <a:t>ه</a:t>
            </a:r>
            <a:r>
              <a:rPr b="0" lang="fa-IR" sz="3600" spc="-1" strike="noStrike">
                <a:solidFill>
                  <a:srgbClr val="002060"/>
                </a:solidFill>
                <a:latin typeface="Times New Roman"/>
              </a:rPr>
              <a:t>سه مرحله زایمان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لقاح و لانه گزینی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09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داخله های پزشکی در زمان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0360" y="2285640"/>
            <a:ext cx="40273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ستگاه های کنترل جنی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ارو درمانی زایما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Arial"/>
              </a:rPr>
              <a:t>داروهای مسکن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اروهای بی حس کنند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Arial"/>
              </a:rPr>
              <a:t>زایمان سزاری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299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وزن کم نوزاد در زمان تولد و </a:t>
            </a:r>
            <a:r>
              <a:rPr b="0" lang="fa-IR" sz="4800" spc="-1" strike="noStrike">
                <a:solidFill>
                  <a:srgbClr val="ffcc00"/>
                </a:solidFill>
                <a:latin typeface="Arial"/>
                <a:cs typeface="Arial"/>
              </a:rPr>
              <a:t>ناتوانائیها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1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cc00"/>
                </a:solidFill>
                <a:latin typeface="Arial"/>
              </a:rPr>
              <a:t>زودرسی در برابر نارسی</a:t>
            </a: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319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00"/>
                </a:solidFill>
                <a:latin typeface="Arial"/>
              </a:rPr>
              <a:t>زودرس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قبل از موعد مقرر بدنیا می آی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مکن است که نسبت به طول زمان حاملگی وزن مناسب داشته باش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41480"/>
            <a:ext cx="388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00"/>
                </a:solidFill>
                <a:latin typeface="Arial"/>
              </a:rPr>
              <a:t>سبک تر از حد انتظار یا نارس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مکن است که زایمان قبل از موعد و یا حتی در موعد مقرر داشته باش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وزن آنها برخلاف طول زمان حاملگی کمتر از حد انتظار است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مداخله هایی برای بچه های زودرس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ایزولت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olet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ستگاه تنفس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لوله مخصوص تغذیه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زریق دارو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حریک ویژه بچه زودر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آموزش دادن مهارتهای مراقبتی به والدی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4857840" y="2286000"/>
            <a:ext cx="4029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رگ و میر نوزادان در سرتاسر دنیا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12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بازتابهای اولیه در نوزادان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14960" y="2071440"/>
            <a:ext cx="3633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پلک زدن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پس کشی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گونه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مکی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شنا کر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80880" y="59436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840" y="207144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مورو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چنگ ز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گام بردار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بابینسکی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nic Neck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التهای برانگیختگی در نوزادان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7480" y="2142720"/>
            <a:ext cx="40273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منظم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نامنظ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آلودگ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هوشیاری کام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بیداری توام با فعالیت و گری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02912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شیوه های آرام کردن کودکی که در حال گریه هست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1680" y="1643040"/>
            <a:ext cx="407196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بلند کنید ، روی شانه قرار دهید و تکان بخورید یا راه برو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قنداق ک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پستانک به بچه بدهی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آرامی با بچه صحبت کنیدیا آوازهای موزون بخوا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با کالسکه بیرون ببریدیا در گهواره تکان ده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دن بچه را ماساژ ده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چند تا از روشهای فوق را با هم ترکیب ک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142920" y="2643120"/>
            <a:ext cx="50007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لامسه در کودک تازه متولد شده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02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پاسخهای بازتابی به تماس لب ، کف دستها، و کف پاها ، مناطق جنسی 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حساسیت به در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د کشیدن روی رفتار بعدی اثر می گذارد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د را با بغل کردن، محلول قند و مواد بیهوشی می توان کاهش دا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واس بویایی و چش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00400" y="236232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 شیرینی در آغاز ترجیح داده می شو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زودی یاد می گیرد که باید مزه های جدید را دوست داشته باش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رجیحات بو مانند مزه فطری است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می توانند از همان آغاز بوی مایع درون رحمی ( آمنیوتیک) مادر خود را ترجیح ده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6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دوره های رشدی پیش از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8680" y="1941480"/>
          <a:ext cx="8208720" cy="4079880"/>
        </p:xfrm>
        <a:graphic>
          <a:graphicData uri="http://schemas.openxmlformats.org/drawingml/2006/table">
            <a:tbl>
              <a:tblPr/>
              <a:tblGrid>
                <a:gridCol w="1957320"/>
                <a:gridCol w="1828800"/>
                <a:gridCol w="4422600"/>
              </a:tblGrid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دوره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زمان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وقایع کلیدی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cc6600"/>
                          </a:solidFill>
                          <a:latin typeface="Arial"/>
                          <a:cs typeface="Arial"/>
                        </a:rPr>
                        <a:t>دوره تخمک بارور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بارور شدن تخمک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لانه گزینی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آغاز شکل گیری جفت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9933"/>
                          </a:solidFill>
                          <a:latin typeface="Arial"/>
                          <a:cs typeface="Arial"/>
                        </a:rPr>
                        <a:t>دوره رویانی</a:t>
                      </a:r>
                      <a:r>
                        <a:rPr b="0" lang="fa-IR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دستها ، پاها ، صورت ، اعضا و عضلات رشد می کنند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قلب شروع به زدن می کند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9933"/>
                          </a:solidFill>
                          <a:latin typeface="Arial"/>
                          <a:cs typeface="Arial"/>
                        </a:rPr>
                        <a:t>دوره جنینی</a:t>
                      </a:r>
                      <a:r>
                        <a:rPr b="0" lang="fa-IR" sz="28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رشد کامل می شود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59"/>
          <p:cNvSpPr/>
          <p:nvPr/>
        </p:nvSpPr>
        <p:spPr>
          <a:xfrm>
            <a:off x="20520" y="134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63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شنو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16320" y="1714680"/>
            <a:ext cx="4027320" cy="49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می تواند دامنۀ صدایی مختلفی را بشناس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صداهای پیچیده را بر صداهای خالص ترجیح می ده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 همان چند روز اول می توانند تفاوت بین تعدادی از طرحهای صوتی را درک کن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صداها حساس هستند و از نظر بیولوژیکی آماده برای یادگیری زبان هست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0" y="2143080"/>
            <a:ext cx="5072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بین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320" y="2133360"/>
            <a:ext cx="402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کم رشد یافته ترین حس در زمان تولد است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قادر نیست که دور را ببیند، عدم تمرکز دقیق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اسکن محیط و تلاش برای ردیابی کردن اشیاء جالب و جذاب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دید رنگ ها در دو ماه اول بهبود می یاب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124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cc00"/>
                </a:solidFill>
                <a:latin typeface="Arial"/>
              </a:rPr>
              <a:t>دوره اول  </a:t>
            </a: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665280"/>
          <a:ext cx="9144000" cy="6291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تخمک تکثیر شد هو بلاستوکیست تشکیل می شو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هفته اول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تخمک بارور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لاستوکیست به جدار رحم می چسبد آمنیون ، کوریون، کیسۀ زرده ،جفت و بند ناف بوجود می آی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هفته د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خمک بارور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مغز و نخاع شوکی ابتدایی نمایان می شود ،قلب ، عضلات ،ستون مهره ها ،دنده ها و دستگاه گوارش شروع به رشد می کن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3-4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هفت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رویا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چند ساختار بیرونی نظیر صورت ، دستها ،پاها و دست و اندامهای دورنی رشد می کنند و حس لامسه پدید می آید و جنین می تواند حرکت ک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5-8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هفته ا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جنسیت جنین معلوم است ، افزایش سریع در اندازه بدن ، توانایی رفتاری نمایان می شود ، دستگاه عصبی، و اندامها ، عضلات سازمان یافته و متصل می شوند.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9-12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هفت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جنی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دوره دوم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8680" y="1941480"/>
          <a:ext cx="820872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7041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جنین به سرعت رشد می کند ، در وسط این دوره مادر می تواند حرکت جنین را احساس کند. ماده چرب ورنیکس و کرک از خشک شدن پوست نوزاد در مایع آمنیونی محافظت می کند. در هفته </a:t>
                      </a: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تمام نورنهای مغز وجود دارند. چشمها به نور حساس و جنین به صدا واکنش نشان می دهد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-24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هفتگ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دوره  د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دوره سوم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571680"/>
          <a:ext cx="9144000" cy="6143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85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اگر جنین متولد شود شانس زنده ماندن را دارد. اندازه بدن به افزایش خود ادامه می دهد. شش ها به تدریج برای نفس کشیدن آماده می شود . رشد سریع مغز به تسریع حرکات کمک می کند. در وسط این دوره به چربی زیر پوست افزوده می شود. پادتن ها از مادر به جنین منتقل می شود . تا از او در برابر بیماریها محافظت نمایند. اغلب جنینها برای آماده شدن جهت تولد سرو ته می  شوند.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-38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هفته ا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ماه س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دوره های حساس پیش از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0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ratogen Substan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داروها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 تجویز و عدم تجویز داروها: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تالیدومید که باعث صدمه به گوش ها ، قلب، کلیه ، اندامهای تناسلی می شد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دتیل استیل بسترول که یک هورمون است به رحم دختران صدمه می زد و باعث سقط جنین و زودرسی منجر می شد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مصرف آسپیرین و کافئین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اروهای غیر مجاز (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کوکائین و هروئین، متادون، کراک، ماری جوانا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5810400" y="2027160"/>
            <a:ext cx="142560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5500800" y="4568760"/>
            <a:ext cx="204444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توتون ( افزایش منواکسید در خون جنین که به دستگاه عصبی صدمه می زند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560" y="1941120"/>
            <a:ext cx="9001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کم وزنی هنگام تولد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قط زودرس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نفس ناقص هنگام خواب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رگ نوزاد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فزایش سرطان بعدی در کودک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کم توجهی نوزادان به صداه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نش عضلانی در نوزادا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نمرات بهره هوشی کمتر و فراخنای توجه کوتاه تر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Shoja</cp:lastModifiedBy>
  <dcterms:modified xsi:type="dcterms:W3CDTF">2020-04-24T20:10:09Z</dcterms:modified>
  <cp:revision>113</cp:revision>
  <dc:subject/>
  <dc:title>Development Through the Lifespan</dc:title>
</cp:coreProperties>
</file>