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6.jpeg" ContentType="image/jpeg"/>
  <Override PartName="/ppt/media/image9.wmf" ContentType="image/x-wmf"/>
  <Override PartName="/ppt/media/image23.jpeg" ContentType="image/jpeg"/>
  <Override PartName="/ppt/media/image22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17.jpeg" ContentType="image/jpeg"/>
  <Override PartName="/ppt/media/image3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E34-676F-4519-A2E4-EABEDBD52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اگر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مناسب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نیاز به کمک برای تثبیت تنفس و سایر نشانه های حیاتی     کمتر از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 خطر جدی و مراقبت اضطراری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4ABE-47D3-4E5F-95D2-E39BAB78773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B7EE-B19E-430B-A145-8F0F9C57237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A43C-E36F-43BC-B753-4C423050EBE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6B0F-EB0C-436E-87D2-26FCFD60ADC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2ADB-61B2-40F6-9DA7-14C109BB264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AFF6-5B77-4F12-8B82-CE9E3C19B62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0BD0-5A4B-4F16-9B38-B41AC09D4AD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DEF-CAEF-42D5-AF60-726FAA50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275-7FD8-4DAF-BD02-FB7EB0DF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125-0624-48C1-A5CB-2AA75128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E33-0288-4606-B10A-86ABE0E8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1B24-A7B6-4A1D-BFF1-ECA4CDF5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C6F5-A9B4-4F22-B0E2-985B8945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0C31-173C-4284-8BE9-07E25B45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8E35-5075-4ABF-8422-1AB941BB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5F26-1EC8-4D98-B963-6A9923D0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724F-3817-4677-8BF2-7EFE821C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BB77-3921-44CC-A616-9352B6C9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1FF-FE11-427C-AF7E-FEA8DB51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12C6-721D-4EC7-9A9A-743F2F41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94B4-BB84-4304-8C7A-D1B9B7B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7114-79FC-4B1F-9AA1-5591CEB5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F509-C1FB-4BF5-A57F-43EF2D73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C0A2-9DD0-43DE-B923-3F7B57E9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FAC-89F7-474F-B601-B10247D7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8F5-B20A-4518-A8A2-AC32681A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EFB-DD48-45AD-8AA7-F3EF69E3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7A3-1ECF-4025-86B0-2036C7C2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3A1-2F52-48A1-8FB8-565D5CDC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55C-2E8A-47BC-A26A-7B23A6E8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D4F-17EA-4229-AA4B-269D138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B58A-049A-4550-B7F0-7D2E1693E77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14A0-BAB6-4850-BAF6-6BBB4430559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 Through the Lifesp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86200" y="1941480"/>
            <a:ext cx="465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Arial"/>
                <a:cs typeface="Arial"/>
              </a:rPr>
              <a:t>فصل سوم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189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cc"/>
                </a:solidFill>
                <a:latin typeface="Arial"/>
                <a:cs typeface="Arial"/>
              </a:rPr>
              <a:t>رشد پیش از تولد  ، تولد و کودک تازه متولد شده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80880" y="61722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1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الکل</a:t>
            </a:r>
            <a:r>
              <a:rPr b="0" lang="fa-IR" sz="2400" spc="-1" strike="noStrike">
                <a:solidFill>
                  <a:srgbClr val="ffcc00"/>
                </a:solidFill>
                <a:latin typeface="Arial"/>
              </a:rPr>
              <a:t> (آسیب رشدی در مغز و مصرف اکسیژن مادر 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عقب ماندگی ذه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اهماهنگی حرکت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قص در توجه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قص در حافظه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زبان معیوب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بیش فعال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ابهنجاری جسمی مانند: (فاصله چشمها زیاد است ، پلکها کم باز می شوند، بینی کوچک و سربالا، لب بالا نازک و سرکوچک که بیانگر رشد کم مغز است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تشعشع (جهش ژنی 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41120"/>
            <a:ext cx="914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فزایش سقط جنی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غز رشد نایافته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نقایص جسمان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رشد جسمانی کم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رشد هوشی کمتر (حتی بعد از سال ها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ضطراب بالا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جیوه و سرب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601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نقایص جسما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عقب ماندگی ذه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گفتار نابهنجار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مشکل در جویدن و بلعیدن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Arial"/>
              </a:rPr>
              <a:t>حرکات ناهماهنگ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Arial"/>
              </a:rPr>
              <a:t>سرب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زودرس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کم وزنی زمان تولد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آسیب مغز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8f8ef"/>
                </a:solidFill>
                <a:latin typeface="Arial"/>
              </a:rPr>
              <a:t>مشکلات جسمانی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بیماریهای عفونی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601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سرخجه : 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در دوره رویانی باعث نارسائیها قلبی ، آب مروارید،کری نابهنجاری تناسلی ، ادراری و روده ای و عقب ماندگی ذهنی، نارسائیهای استخوانی 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یدز :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 نقص دستگاه ایمنی : در شش ماهگی نقص ؛ کاهش وزن ، اسهال و بیماریهای تنفسی مشهود است، آسیب مغزی ، کاهش وزن مغز ، بچه ها بعد از بروز این علائم  فقط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 تا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8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 ماه زنده می مانند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ویروس تبخال: 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 ارگانیزم در حال رشد خیلی به آن حساس است ، سقط جنین ، کم وزنی ، نقایص جسمانی ،عقب ماندگی ذهنی ) 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بیماری باکتریایی و انگلی :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توکسوپلاسموز شایعترین آن است ، آسیب به چشم و مغز در سه ماهه اول جنینی ، اختلالهای دیداری و شناختی ) 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8680" y="1928520"/>
            <a:ext cx="767232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قدار : مقدار بیشتر در زمان طولانی تر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وراثت : اینکه آمادگی فرد چقدر است 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تاثیرات مخرب دیگر : مانند تغذیه ب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سن ارگانیزم پیش از تولد : به این معنی که کی تراتوژن وارد شده </a:t>
            </a:r>
            <a:r>
              <a:rPr b="0" lang="fa-IR" sz="1800" spc="-1" strike="noStrike">
                <a:solidFill>
                  <a:srgbClr val="ffffcc"/>
                </a:solidFill>
                <a:latin typeface="Arial"/>
              </a:rPr>
              <a:t>(دوره های حساس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آسیب های تراتوژن ها به چندین عامل بستگی دارد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عوامل مادری موثر بر رشد سالم جنین در پیش از تولد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02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تغذیه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بیماریهای عفون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استرسهای هیجان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عامل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rh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fa-IR" sz="3200" spc="-1" strike="noStrike">
                <a:solidFill>
                  <a:srgbClr val="ffffcc"/>
                </a:solidFill>
                <a:latin typeface="Arial"/>
                <a:ea typeface="Arial"/>
              </a:rPr>
              <a:t>  خو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سن مادر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  <a:cs typeface="Arial"/>
              </a:rPr>
              <a:t>زایمان های قبل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831960" y="1941480"/>
            <a:ext cx="302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مقیاس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APG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4120" y="1941480"/>
            <a:ext cx="320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pear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l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m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spir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rcRect l="17500" t="0" r="5000" b="0"/>
          <a:stretch/>
        </p:blipFill>
        <p:spPr>
          <a:xfrm>
            <a:off x="533520" y="190512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مقیاس آپگار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857160"/>
          <a:ext cx="9144000" cy="60008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نمره 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نمره 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نمره 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علامت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100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140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ضربان در دقیقه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کمتر از 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100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ضربان در دقیقه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ضربان قلب و جود ندار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ضربان قلب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نفس و گریه کردن قوی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نفس نامنظم و سطح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ه مدت شصت ثانیه تنفس وجود ندار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لاش تنفس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پاسخ بازتابی قو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پاسخ بازتابی ضعیف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پاسخ وجود ندار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حریک پذ یری بازتاب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عطسه ، سرفه ، اخم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حرکات قو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دستها  و پاها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حرکات ضعیف دستها و پاها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کاملا شل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ونوس عضلان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دن ، دستها و پاها کاملا صورت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دن صورتی ، اما دست و پا کبو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دن و دست و پا کبود است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رنگ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زایمان طبیعی، و برنامه هایی برای شرکت مادر حامله و یک مراقب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16320" y="2876040"/>
            <a:ext cx="40273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شرکت در کلاسها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روشهای آرمیدگی و تنف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مربی زایما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2214720"/>
            <a:ext cx="40291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سه مرحله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4" name="Picture 1028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30"/>
          <p:cNvSpPr/>
          <p:nvPr/>
        </p:nvSpPr>
        <p:spPr>
          <a:xfrm>
            <a:off x="457200" y="62485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207040" y="542916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Times New Roman"/>
              </a:rPr>
              <a:t>س</a:t>
            </a:r>
            <a:r>
              <a:rPr b="0" lang="fa-IR" sz="3600" spc="-1" strike="noStrike">
                <a:solidFill>
                  <a:srgbClr val="ffffcc"/>
                </a:solidFill>
                <a:latin typeface="Times New Roman"/>
              </a:rPr>
              <a:t>ه</a:t>
            </a:r>
            <a:r>
              <a:rPr b="0" lang="fa-IR" sz="3600" spc="-1" strike="noStrike">
                <a:solidFill>
                  <a:srgbClr val="002060"/>
                </a:solidFill>
                <a:latin typeface="Times New Roman"/>
              </a:rPr>
              <a:t>سه مرحله زایمان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لقاح و لانه گزینی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209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مداخله های پزشکی در زمان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00360" y="2285640"/>
            <a:ext cx="40273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دستگاه های کنترل جنی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دارو درمانی زایما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Arial"/>
              </a:rPr>
              <a:t>داروهای مسکن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داروهای بی حس کنند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cc"/>
                </a:solidFill>
                <a:latin typeface="Arial"/>
              </a:rPr>
              <a:t>زایمان سزاری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299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وزن کم نوزاد در زمان تولد و </a:t>
            </a:r>
            <a:r>
              <a:rPr b="0" lang="fa-IR" sz="4800" spc="-1" strike="noStrike">
                <a:solidFill>
                  <a:srgbClr val="ffcc00"/>
                </a:solidFill>
                <a:latin typeface="Arial"/>
                <a:cs typeface="Arial"/>
              </a:rPr>
              <a:t>ناتوانائیها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1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cc00"/>
                </a:solidFill>
                <a:latin typeface="Arial"/>
              </a:rPr>
              <a:t>زودرسی در برابر نارسی</a:t>
            </a: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319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cc00"/>
                </a:solidFill>
                <a:latin typeface="Arial"/>
              </a:rPr>
              <a:t>زودرسی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قبل از موعد مقرر بدنیا می آین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ممکن است که نسبت به طول زمان حاملگی وزن مناسب داشته باشن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41480"/>
            <a:ext cx="388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cc00"/>
                </a:solidFill>
                <a:latin typeface="Arial"/>
              </a:rPr>
              <a:t>سبک تر از حد انتظار یا نارسی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ممکن است که زایمان قبل از موعد و یا حتی در موعد مقرر داشته باشند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وزن آنها برخلاف طول زمان حاملگی کمتر از حد انتظار است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مداخله هایی برای بچه های زودرس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ایزولت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olet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ستگاه تنفس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لوله مخصوص تغذیه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تزریق دارو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تحریک ویژه بچه زودر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آموزش دادن مهارتهای مراقبتی به والدی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4857840" y="2286000"/>
            <a:ext cx="40291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مرگ و میر نوزادان در سرتاسر دنیا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62485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12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بازتابهای اولیه در نوزادان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14960" y="2071440"/>
            <a:ext cx="3633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پلک زدن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پس کشی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گونه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مکی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شنا کر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80880" y="59436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5840" y="2071440"/>
            <a:ext cx="4572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مورو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چنگ زدن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گام برداری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Arial"/>
              </a:rPr>
              <a:t>بابینسکی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nic Neck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التهای برانگیختگی در نوزادان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57480" y="2142720"/>
            <a:ext cx="40273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خواب منظم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خواب نامنظ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خواب آلودگی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هوشیاری کام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cc"/>
                </a:solidFill>
                <a:latin typeface="Arial"/>
              </a:rPr>
              <a:t>بیداری توام با فعالیت و گری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402912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شیوه های آرام کردن کودکی که در حال گریه هست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1680" y="1643040"/>
            <a:ext cx="407196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چه را بلند کنید ، روی شانه قرار دهید و تکان بخورید یا راه برو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چه را قنداق کن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پستانک به بچه بدهی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ه آرامی با بچه صحبت کنیدیا آوازهای موزون بخوان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چه را با کالسکه بیرون ببریدیا در گهواره تکان ده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دن بچه را ماساژ ده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چند تا از روشهای فوق را با هم ترکیب کنی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142920" y="2643120"/>
            <a:ext cx="50007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س لامسه در کودک تازه متولد شده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402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پاسخهای بازتابی به تماس لب ، کف دستها، و کف پاها ، مناطق جنسی 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حساسیت به در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رد کشیدن روی رفتار بعدی اثر می گذارد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رد را با بغل کردن، محلول قند و مواد بیهوشی می توان کاهش دا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28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واس بویایی و چشایی در کودک تازه متولد شده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00400" y="236232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 شیرینی در آغاز ترجیح داده می شو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ه زودی یاد می گیرد که باید مزه های جدید را دوست داشته باش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ترجیحات بو مانند مزه فطری است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می توانند از همان آغاز بوی مایع درون رحمی ( آمنیوتیک) مادر خود را ترجیح ده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6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دوره های رشدی پیش از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8680" y="1941480"/>
          <a:ext cx="8208720" cy="4079880"/>
        </p:xfrm>
        <a:graphic>
          <a:graphicData uri="http://schemas.openxmlformats.org/drawingml/2006/table">
            <a:tbl>
              <a:tblPr/>
              <a:tblGrid>
                <a:gridCol w="1957320"/>
                <a:gridCol w="1828800"/>
                <a:gridCol w="4422600"/>
              </a:tblGrid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دوره</a:t>
                      </a: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زمان</a:t>
                      </a: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وقایع کلیدی</a:t>
                      </a:r>
                      <a:r>
                        <a:rPr b="1" lang="fa-IR" sz="3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cc6600"/>
                          </a:solidFill>
                          <a:latin typeface="Arial"/>
                          <a:cs typeface="Arial"/>
                        </a:rPr>
                        <a:t>دوره تخمک بارور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 week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بارور شدن تخمک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لانه گزینی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آغاز شکل گیری جفت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9933"/>
                          </a:solidFill>
                          <a:latin typeface="Arial"/>
                          <a:cs typeface="Arial"/>
                        </a:rPr>
                        <a:t>دوره رویانی</a:t>
                      </a:r>
                      <a:r>
                        <a:rPr b="0" lang="fa-IR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 week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دستها ، پاها ، صورت ، اعضا و عضلات رشد می کنند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قلب شروع به زدن می کند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9933"/>
                          </a:solidFill>
                          <a:latin typeface="Arial"/>
                          <a:cs typeface="Arial"/>
                        </a:rPr>
                        <a:t>دوره جنینی</a:t>
                      </a:r>
                      <a:r>
                        <a:rPr b="0" lang="fa-IR" sz="28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 week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cc"/>
                          </a:solidFill>
                          <a:latin typeface="Arial"/>
                          <a:cs typeface="Arial"/>
                        </a:rPr>
                        <a:t>رشد کامل می شود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59"/>
          <p:cNvSpPr/>
          <p:nvPr/>
        </p:nvSpPr>
        <p:spPr>
          <a:xfrm>
            <a:off x="20520" y="134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63"/>
          <p:cNvSpPr/>
          <p:nvPr/>
        </p:nvSpPr>
        <p:spPr>
          <a:xfrm>
            <a:off x="457200" y="60199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س شنوایی در کودک تازه متولد شده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16320" y="1714680"/>
            <a:ext cx="4027320" cy="49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می تواند دامنۀ صدایی مختلفی را بشناس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صداهای پیچیده را بر صداهای خالص ترجیح می ده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ر همان چند روز اول می توانند تفاوت بین تعدادی از طرحهای صوتی را درک کن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به صداها حساس هستند و از نظر بیولوژیکی آماده برای یادگیری زبان هستن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0" y="2143080"/>
            <a:ext cx="5072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حس بینایی در کودک تازه متولد شده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320" y="2133360"/>
            <a:ext cx="402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کم رشد یافته ترین حس در زمان تولد است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ffffcc"/>
                </a:solidFill>
                <a:latin typeface="Arial"/>
                <a:cs typeface="Arial"/>
              </a:rPr>
              <a:t>قادر نیست که دور را ببیند، عدم تمرکز دقیق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  <a:cs typeface="Arial"/>
              </a:rPr>
              <a:t>اسکن محیط و تلاش برای ردیابی کردن اشیاء جالب و جذاب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  <a:cs typeface="Arial"/>
              </a:rPr>
              <a:t>دید رنگ ها در دو ماه اول بهبود می یابد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1248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cc00"/>
                </a:solidFill>
                <a:latin typeface="Arial"/>
              </a:rPr>
              <a:t>دوره اول  </a:t>
            </a: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665280"/>
          <a:ext cx="9144000" cy="6291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تخمک تکثیر شد هو بلاستوکیست تشکیل می شود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هفته اول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تخمک بارور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بلاستوکیست به جدار رحم می چسبد آمنیون ، کوریون، کیسۀ زرده ،جفت و بند ناف بوجود می آین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هفته دوم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تخمک بارور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مغز و نخاع شوکی ابتدایی نمایان می شود ،قلب ، عضلات ،ستون مهره ها ،دنده ها و دستگاه گوارش شروع به رشد می کنن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3-4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هفته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رویان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چند ساختار بیرونی نظیر صورت ، دستها ،پاها و دست و اندامهای دورنی رشد می کنند و حس لامسه پدید می آید و جنین می تواند حرکت کند.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5-8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هفته ا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جنسیت جنین معلوم است ، افزایش سریع در اندازه بدن ، توانایی رفتاری نمایان می شود ، دستگاه عصبی، و اندامها ، عضلات سازمان یافته و متصل می شوند.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9-12</a:t>
                      </a: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 هفته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2c2c42"/>
                          </a:solidFill>
                          <a:latin typeface="Arial"/>
                        </a:rPr>
                        <a:t>جنین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دوره دوم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8680" y="1941480"/>
          <a:ext cx="8208720" cy="484668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70412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جنین به سرعت رشد می کند ، در وسط این دوره مادر می تواند حرکت جنین را احساس کند. ماده چرب ورنیکس و کرک از خشک شدن پوست نوزاد در مایع آمنیونی محافظت می کند. در هفته </a:t>
                      </a: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تمام نورنهای مغز وجود دارند. چشمها به نور حساس و جنین به صدا واکنش نشان می دهد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-24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هفتگ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دوره  دوم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دوره سوم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571680"/>
          <a:ext cx="9144000" cy="6143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85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اگر جنین متولد شود شانس زنده ماندن را دارد. اندازه بدن به افزایش خود ادامه می دهد. شش ها به تدریج برای نفس کشیدن آماده می شود . رشد سریع مغز به تسریع حرکات کمک می کند. در وسط این دوره به چربی زیر پوست افزوده می شود. پادتن ها از مادر به جنین منتقل می شود . تا از او در برابر بیماریها محافظت نمایند. اغلب جنینها برای آماده شدن جهت تولد سرو ته می  شوند.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-38</a:t>
                      </a: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هفته ای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ماه سوم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  <a:cs typeface="Arial"/>
              </a:rPr>
              <a:t>دوره های حساس پیش از تول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62485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opyright © Allyn &amp; Bacon 200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0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ratogen Substanc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داروها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 تجویز و عدم تجویز داروها: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(تالیدومید که باعث صدمه به گوش ها ، قلب، کلیه ، اندامهای تناسلی می شد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دتیل استیل بسترول که یک هورمون است به رحم دختران صدمه می زد و باعث سقط جنین و زودرسی منجر می شد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مصرف آسپیرین و کافئین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Arial"/>
              </a:rPr>
              <a:t>داروهای غیر مجاز (</a:t>
            </a:r>
            <a:r>
              <a:rPr b="0" lang="fa-IR" sz="2000" spc="-1" strike="noStrike">
                <a:solidFill>
                  <a:srgbClr val="ffffcc"/>
                </a:solidFill>
                <a:latin typeface="Arial"/>
              </a:rPr>
              <a:t>کوکائین و هروئین، متادون، کراک، ماری جوانا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5810400" y="2027160"/>
            <a:ext cx="142560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5500800" y="4568760"/>
            <a:ext cx="204444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cc00"/>
                </a:solidFill>
                <a:latin typeface="Arial"/>
              </a:rPr>
              <a:t>توتون ( افزایش منواکسید در خون جنین که به دستگاه عصبی صدمه می زند)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2560" y="1941120"/>
            <a:ext cx="9001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کم وزنی هنگام تولد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سقط زودرس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تنفس ناقص هنگام خواب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مرگ نوزاد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افزایش سرطان بعدی در کودک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کم توجهی نوزادان به صداها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تنش عضلانی در نوزادان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cc"/>
                </a:solidFill>
                <a:latin typeface="Arial"/>
              </a:rPr>
              <a:t>نمرات بهره هوشی کمتر و فراخنای توجه کوتاه تر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Shoja</cp:lastModifiedBy>
  <dcterms:modified xsi:type="dcterms:W3CDTF">2020-04-24T20:10:09Z</dcterms:modified>
  <cp:revision>113</cp:revision>
  <dc:subject/>
  <dc:title>Development Through the Lifespan</dc:title>
</cp:coreProperties>
</file>